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031-A95B-429A-95D8-68BB2DEF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E11-C2EF-4AD5-9DAE-99F31D49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87C-1B2B-4AAF-BD36-4FADE50F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6A7-9DA0-4CDF-952F-18CA6310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D7D-29AE-4A74-BAEF-A9F7F7CD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350-11FC-49A9-AA6F-8D3BF8EF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0B6-E091-498A-BF60-8F63418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5D1-8460-494B-91C9-2BCF250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340-5327-42A9-8195-0FB98198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CD5-B843-405E-A354-26E4F12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328-09B9-42AA-B092-E316AB3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FA9-CECC-4C1C-918E-54074C5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0AC-760D-4491-B47A-4FD916F42F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314-E175-4D3B-803A-36D9F0572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ena.apache.org/" TargetMode="External"/><Relationship Id="rId2" Type="http://schemas.openxmlformats.org/officeDocument/2006/relationships/hyperlink" Target="http://d2rq.org/" TargetMode="External"/><Relationship Id="rId3" Type="http://schemas.openxmlformats.org/officeDocument/2006/relationships/hyperlink" Target="http://www.hozo.jp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ntology Application Management (OAM) Framework User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lst.nectec.or.th/oa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34920" y="365760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1: Database to Ontology Mapping &amp; Semantic Search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2: Recommender Applica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3: Recommender Web API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5530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ast updated: Dec 22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073320" y="64008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© LST Lab, NECTEC, Thai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2/5 -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reate a Database in My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ate database data using Microsoft Excel or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office Cal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52280" y="1424160"/>
            <a:ext cx="876312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790800" y="3875040"/>
            <a:ext cx="504828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228600" y="3776760"/>
            <a:ext cx="3159000" cy="254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>
            <a:off x="6315120" y="3200400"/>
            <a:ext cx="24480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layer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840" y="6095880"/>
            <a:ext cx="25794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untry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11040" y="6014880"/>
            <a:ext cx="21420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ub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FC8C-BF00-4649-A37B-FEDA582D92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40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 database data to MySQL Database using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914400" y="1284120"/>
            <a:ext cx="7288200" cy="503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Oval 3"/>
          <p:cNvSpPr/>
          <p:nvPr/>
        </p:nvSpPr>
        <p:spPr>
          <a:xfrm>
            <a:off x="685800" y="1676520"/>
            <a:ext cx="1143000" cy="99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5"/>
          <p:cNvSpPr/>
          <p:nvPr/>
        </p:nvSpPr>
        <p:spPr>
          <a:xfrm>
            <a:off x="3408480" y="358128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6"/>
          <p:cNvSpPr/>
          <p:nvPr/>
        </p:nvSpPr>
        <p:spPr>
          <a:xfrm>
            <a:off x="3276720" y="5105520"/>
            <a:ext cx="12808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D5C-6F21-4883-A5E7-EFA1AE7157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30200" y="457200"/>
            <a:ext cx="4162320" cy="53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886200" y="1828800"/>
            <a:ext cx="497664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1523880" y="3119400"/>
            <a:ext cx="1447920" cy="309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8"/>
          <p:cNvSpPr/>
          <p:nvPr/>
        </p:nvSpPr>
        <p:spPr>
          <a:xfrm>
            <a:off x="5334120" y="2206800"/>
            <a:ext cx="2971800" cy="1823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56200" y="719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reate New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864-FDE1-467A-9132-73BD507377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Import Data from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33240" y="1066680"/>
            <a:ext cx="1943280" cy="215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590920" y="1343160"/>
            <a:ext cx="3429000" cy="302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216320" y="1836720"/>
            <a:ext cx="3606840" cy="318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4800600" y="3475080"/>
            <a:ext cx="3327480" cy="294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rcRect l="0" t="-55782" r="0" b="111503"/>
          <a:stretch/>
        </p:blipFill>
        <p:spPr>
          <a:xfrm>
            <a:off x="633240" y="2705040"/>
            <a:ext cx="4667400" cy="183996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3FD4-FF3D-4EC4-8138-341D294BA4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657680" cy="408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724280" cy="416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813040" y="1981080"/>
            <a:ext cx="4724280" cy="417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3733920" y="295200"/>
            <a:ext cx="4724280" cy="4172040"/>
          </a:xfrm>
          <a:prstGeom prst="rect">
            <a:avLst/>
          </a:prstGeom>
          <a:ln w="0">
            <a:noFill/>
          </a:ln>
        </p:spPr>
      </p:pic>
      <p:sp>
        <p:nvSpPr>
          <p:cNvPr id="108" name="Oval 3"/>
          <p:cNvSpPr/>
          <p:nvPr/>
        </p:nvSpPr>
        <p:spPr>
          <a:xfrm>
            <a:off x="6705720" y="4067280"/>
            <a:ext cx="99036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2EE-ED8D-4E81-91B4-A54B0D3AC7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838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Oval 3"/>
          <p:cNvSpPr/>
          <p:nvPr/>
        </p:nvSpPr>
        <p:spPr>
          <a:xfrm>
            <a:off x="3173400" y="14940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376360" y="1447920"/>
            <a:ext cx="6381720" cy="11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2382840" y="2828880"/>
            <a:ext cx="6438960" cy="12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46480" y="4191120"/>
            <a:ext cx="6475320" cy="1990440"/>
          </a:xfrm>
          <a:prstGeom prst="rect">
            <a:avLst/>
          </a:prstGeom>
          <a:ln w="0">
            <a:noFill/>
          </a:ln>
        </p:spPr>
      </p:pic>
      <p:sp>
        <p:nvSpPr>
          <p:cNvPr id="116" name="Oval 13"/>
          <p:cNvSpPr/>
          <p:nvPr/>
        </p:nvSpPr>
        <p:spPr>
          <a:xfrm>
            <a:off x="7772400" y="163044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7772400" y="324324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7615080" y="533412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560-F56E-4F92-8FC6-709EF46F92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3/5: Database to Ontology Mapping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988920" y="1333440"/>
            <a:ext cx="4116600" cy="4554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t up Environment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3200400" y="3809880"/>
            <a:ext cx="5054760" cy="2167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2209680" y="3089160"/>
            <a:ext cx="884520" cy="416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821200" y="5257800"/>
            <a:ext cx="8845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E482-A825-4AC9-90DC-CD02F0D8D5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Set up internal datab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3520" y="1328760"/>
            <a:ext cx="380052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Oval 3"/>
          <p:cNvSpPr/>
          <p:nvPr/>
        </p:nvSpPr>
        <p:spPr>
          <a:xfrm>
            <a:off x="533520" y="132876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1665360" y="358128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114800" y="2011320"/>
            <a:ext cx="3962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6781680" y="315756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00800" y="5029200"/>
            <a:ext cx="86508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249-2028-4280-981D-4FA751AAE3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bout OA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To simplify creation and adoption of a semantic web appl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Provides common application templates that can process the user's published RDF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r's programming skill is NOT REQUIRED in building a prototype ap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upports both RDF data publishing from databases and building ontology-based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Semantic search, Recommender system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182-7BF3-4C41-8FD2-9E29B7F8BF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Apache Tomc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50520" cy="110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413000" y="2971800"/>
            <a:ext cx="71388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Oval 3"/>
          <p:cNvSpPr/>
          <p:nvPr/>
        </p:nvSpPr>
        <p:spPr>
          <a:xfrm>
            <a:off x="1143000" y="3809880"/>
            <a:ext cx="1905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457200" y="1771560"/>
            <a:ext cx="59022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6A4-48E8-4839-A7DC-B82EE2B8A2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Mapping Web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confi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524640" cy="42004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F81-7B42-4F6C-ABB1-D87C3365A4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B and Ontology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143000" y="1743120"/>
            <a:ext cx="6862680" cy="4276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89CA-3966-4804-88AC-2147FCA914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lass - Tabl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0" t="0" r="0" b="33445"/>
          <a:stretch/>
        </p:blipFill>
        <p:spPr>
          <a:xfrm>
            <a:off x="1041480" y="1295280"/>
            <a:ext cx="713412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15400" cy="3371760"/>
          </a:xfrm>
          <a:prstGeom prst="rect">
            <a:avLst/>
          </a:prstGeom>
          <a:ln w="0">
            <a:noFill/>
          </a:ln>
        </p:spPr>
      </p:pic>
      <p:sp>
        <p:nvSpPr>
          <p:cNvPr id="153" name="Oval 3"/>
          <p:cNvSpPr/>
          <p:nvPr/>
        </p:nvSpPr>
        <p:spPr>
          <a:xfrm>
            <a:off x="6629400" y="2154240"/>
            <a:ext cx="15526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715000" y="6019920"/>
            <a:ext cx="9144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D33-36BB-4FDB-92DD-50A7510C3D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Class – Tabl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10440" cy="464796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7467480" y="2514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DE88-390F-4277-98E2-091B15407C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Property – Column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54000" y="1243080"/>
            <a:ext cx="7305840" cy="239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rcRect l="0" t="8039" r="0" b="0"/>
          <a:stretch/>
        </p:blipFill>
        <p:spPr>
          <a:xfrm>
            <a:off x="3276720" y="3200400"/>
            <a:ext cx="5419440" cy="3170160"/>
          </a:xfrm>
          <a:prstGeom prst="rect">
            <a:avLst/>
          </a:prstGeom>
          <a:ln w="0">
            <a:noFill/>
          </a:ln>
        </p:spPr>
      </p:pic>
      <p:sp>
        <p:nvSpPr>
          <p:cNvPr id="163" name="Oval 5"/>
          <p:cNvSpPr/>
          <p:nvPr/>
        </p:nvSpPr>
        <p:spPr>
          <a:xfrm>
            <a:off x="6629400" y="2306520"/>
            <a:ext cx="15526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A58A-3D3F-4F7E-AE48-4E4E3F6978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atatype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18480" cy="449568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>
            <a:off x="1981080" y="2001960"/>
            <a:ext cx="2667240" cy="43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928-1796-4575-AE2B-BAE62F2500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bject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924440"/>
          </a:xfrm>
          <a:prstGeom prst="rect">
            <a:avLst/>
          </a:prstGeom>
          <a:ln w="0">
            <a:noFill/>
          </a:ln>
        </p:spPr>
      </p:pic>
      <p:sp>
        <p:nvSpPr>
          <p:cNvPr id="171" name="Oval 5"/>
          <p:cNvSpPr/>
          <p:nvPr/>
        </p:nvSpPr>
        <p:spPr>
          <a:xfrm>
            <a:off x="4495680" y="1447920"/>
            <a:ext cx="2667240" cy="43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B09-A90C-4F6C-9E3A-0C3D6CBC39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45680" cy="33530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BAB-5DD9-4163-AF2D-97F1A60AE4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10440" cy="4647960"/>
          </a:xfrm>
          <a:prstGeom prst="rect">
            <a:avLst/>
          </a:prstGeom>
          <a:ln w="0">
            <a:noFill/>
          </a:ln>
        </p:spPr>
      </p:pic>
      <p:sp>
        <p:nvSpPr>
          <p:cNvPr id="178" name="Oval 4"/>
          <p:cNvSpPr/>
          <p:nvPr/>
        </p:nvSpPr>
        <p:spPr>
          <a:xfrm>
            <a:off x="7543800" y="33526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BA7-0272-4EEE-A8F0-D5598D1393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oftware used by and bundled with OAM Framework user’s pac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ache Jena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1"/>
              </a:rPr>
              <a:t>http://jena.apache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D2RQ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2"/>
              </a:rPr>
              <a:t>http://d2rq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Hozo ontology editor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3"/>
              </a:rPr>
              <a:t>http://www.hozo.jp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ache Tomcat (http://tomcat.apache.org/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E54-CFE3-4F78-9DEA-0156845AF1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5334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AM framework was originally developed as a companion application framework for OWL ontologies developed using Hozo ontology editor. It also works with OWL ontologies created using Protege 4.x Ontology Editor (although with some limitatio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162400" cy="486720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E967-003C-4520-9B58-379C93F3A4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24560" cy="1905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400800" y="2743200"/>
            <a:ext cx="15238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676520" y="3317760"/>
            <a:ext cx="6553080" cy="327672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A42-DB45-4194-8D59-AC8F2FA96B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747720" y="1295280"/>
            <a:ext cx="7620120" cy="5135760"/>
          </a:xfrm>
          <a:prstGeom prst="rect">
            <a:avLst/>
          </a:prstGeom>
          <a:ln w="0">
            <a:noFill/>
          </a:ln>
        </p:spPr>
      </p:pic>
      <p:sp>
        <p:nvSpPr>
          <p:cNvPr id="190" name="Oval 5"/>
          <p:cNvSpPr/>
          <p:nvPr/>
        </p:nvSpPr>
        <p:spPr>
          <a:xfrm>
            <a:off x="3781440" y="307188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838080" y="3378240"/>
            <a:ext cx="1371600" cy="20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03B7-AA10-43A0-8422-A795470396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reate/ 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195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0A46-7103-41F5-A128-5ED19BD186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4/5: Search Application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pplication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62120" y="1414440"/>
            <a:ext cx="7913520" cy="4681440"/>
          </a:xfrm>
          <a:prstGeom prst="rect">
            <a:avLst/>
          </a:prstGeom>
          <a:ln w="0">
            <a:noFill/>
          </a:ln>
        </p:spPr>
      </p:pic>
      <p:sp>
        <p:nvSpPr>
          <p:cNvPr id="201" name="Oval 6"/>
          <p:cNvSpPr/>
          <p:nvPr/>
        </p:nvSpPr>
        <p:spPr>
          <a:xfrm>
            <a:off x="7238880" y="4214880"/>
            <a:ext cx="762120" cy="509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C76E-B7C0-4C9D-A05C-E9FE121C21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09800" y="2695680"/>
            <a:ext cx="5324400" cy="4162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arch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operties that are allowed in Search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1523880" y="2895480"/>
            <a:ext cx="2362320" cy="3429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60A-9D15-4379-948C-13BEE27F0B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066760" y="2438280"/>
            <a:ext cx="5324760" cy="41626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isplay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operties that are allowed to display search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4800600" y="2743200"/>
            <a:ext cx="2362320" cy="3352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6095880" y="6095880"/>
            <a:ext cx="129564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553080" y="3886200"/>
            <a:ext cx="68580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8E7-9E63-497F-9C09-34ADF0022D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Search/Display Prope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0" t="53115" r="0" b="0"/>
          <a:stretch/>
        </p:blipFill>
        <p:spPr>
          <a:xfrm>
            <a:off x="838080" y="1447920"/>
            <a:ext cx="7894800" cy="380988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C31E-8B48-40B8-9DE7-28A98913B2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220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8E7-461E-4C60-9CF3-E73DEEDE71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1 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base to Ontology Mapp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&amp; Semantic Search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5: Start Search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 Semantic Search Web Interf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URL: http://localhost:8080/search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62120" y="1940040"/>
            <a:ext cx="7924680" cy="3962160"/>
          </a:xfrm>
          <a:prstGeom prst="rect">
            <a:avLst/>
          </a:prstGeom>
          <a:ln w="0">
            <a:noFill/>
          </a:ln>
        </p:spPr>
      </p:pic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5D5-3FED-4D61-ACF2-4588DE07D9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3" descr=""/>
          <p:cNvPicPr/>
          <p:nvPr/>
        </p:nvPicPr>
        <p:blipFill>
          <a:blip r:embed="rId1"/>
          <a:srcRect l="0" t="0" r="8154" b="0"/>
          <a:stretch/>
        </p:blipFill>
        <p:spPr>
          <a:xfrm>
            <a:off x="155520" y="2057400"/>
            <a:ext cx="8988480" cy="3578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arch Conditions an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4"/>
          <p:cNvSpPr/>
          <p:nvPr/>
        </p:nvSpPr>
        <p:spPr>
          <a:xfrm flipV="1">
            <a:off x="990720" y="243756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"/>
          <p:cNvSpPr/>
          <p:nvPr/>
        </p:nvSpPr>
        <p:spPr>
          <a:xfrm flipV="1">
            <a:off x="208080" y="29710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"/>
          <p:cNvSpPr/>
          <p:nvPr/>
        </p:nvSpPr>
        <p:spPr>
          <a:xfrm flipV="1">
            <a:off x="155520" y="3656520"/>
            <a:ext cx="8839080" cy="826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7"/>
          <p:cNvSpPr/>
          <p:nvPr/>
        </p:nvSpPr>
        <p:spPr>
          <a:xfrm flipV="1">
            <a:off x="76320" y="2842200"/>
            <a:ext cx="5711760" cy="662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666880" y="22860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ass to 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5788080" y="29718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cond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86600" y="33195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Display prop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1596960" y="2754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prop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DEA5-E2B2-48F1-8C3C-FB403D3390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New Search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4440" y="117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URL: http://localhost:8080/search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1258-5FC8-4081-9DE5-E24286F3CE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878040" y="1789200"/>
            <a:ext cx="7500960" cy="4572000"/>
            <a:chOff x="878040" y="1789200"/>
            <a:chExt cx="7500960" cy="4572000"/>
          </a:xfrm>
        </p:grpSpPr>
        <p:pic>
          <p:nvPicPr>
            <p:cNvPr id="244" name="Picture 5" descr=""/>
            <p:cNvPicPr/>
            <p:nvPr/>
          </p:nvPicPr>
          <p:blipFill>
            <a:blip r:embed="rId1"/>
            <a:srcRect l="0" t="0" r="0" b="2345"/>
            <a:stretch/>
          </p:blipFill>
          <p:spPr>
            <a:xfrm>
              <a:off x="902160" y="1789200"/>
              <a:ext cx="7381080" cy="4533120"/>
            </a:xfrm>
            <a:prstGeom prst="rect">
              <a:avLst/>
            </a:prstGeom>
            <a:ln w="9360">
              <a:solidFill>
                <a:srgbClr val="4f81bd"/>
              </a:solidFill>
              <a:round/>
            </a:ln>
          </p:spPr>
        </p:pic>
        <p:sp>
          <p:nvSpPr>
            <p:cNvPr id="245" name="Oval 6"/>
            <p:cNvSpPr/>
            <p:nvPr/>
          </p:nvSpPr>
          <p:spPr>
            <a:xfrm>
              <a:off x="878040" y="2336760"/>
              <a:ext cx="84600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20543"/>
            <p:cNvSpPr/>
            <p:nvPr/>
          </p:nvSpPr>
          <p:spPr>
            <a:xfrm>
              <a:off x="1636560" y="266868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129"/>
            <p:cNvSpPr/>
            <p:nvPr/>
          </p:nvSpPr>
          <p:spPr>
            <a:xfrm>
              <a:off x="7201080" y="22082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7386840" y="2289240"/>
              <a:ext cx="90468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193160" y="3135240"/>
              <a:ext cx="105876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Oval 11"/>
            <p:cNvSpPr/>
            <p:nvPr/>
          </p:nvSpPr>
          <p:spPr>
            <a:xfrm>
              <a:off x="7709400" y="2820960"/>
              <a:ext cx="669600" cy="258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12"/>
            <p:cNvSpPr/>
            <p:nvPr/>
          </p:nvSpPr>
          <p:spPr>
            <a:xfrm>
              <a:off x="878040" y="6104160"/>
              <a:ext cx="1871640" cy="257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 Box 20542"/>
            <p:cNvSpPr/>
            <p:nvPr/>
          </p:nvSpPr>
          <p:spPr>
            <a:xfrm>
              <a:off x="7588440" y="282096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28"/>
            <p:cNvSpPr/>
            <p:nvPr/>
          </p:nvSpPr>
          <p:spPr>
            <a:xfrm>
              <a:off x="7064640" y="308772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130"/>
            <p:cNvSpPr/>
            <p:nvPr/>
          </p:nvSpPr>
          <p:spPr>
            <a:xfrm>
              <a:off x="2749680" y="599148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Ful Web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word search over datatyp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 property displayed as labels or property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language switch (English or Tha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V or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N 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DBBE-315B-4301-ACFA-6ADEBA203E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21888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Web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D771-391C-4A11-A055-C301B637A7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302080" y="1143000"/>
            <a:ext cx="2775240" cy="141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436680" y="1282680"/>
            <a:ext cx="4216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Oval 6"/>
          <p:cNvSpPr/>
          <p:nvPr/>
        </p:nvSpPr>
        <p:spPr>
          <a:xfrm>
            <a:off x="4191120" y="1380960"/>
            <a:ext cx="523800" cy="19872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Straight Arrow Connector 2"/>
          <p:cNvCxnSpPr>
            <a:stCxn id="262" idx="5"/>
            <a:endCxn id="260" idx="1"/>
          </p:cNvCxnSpPr>
          <p:nvPr/>
        </p:nvCxnSpPr>
        <p:spPr>
          <a:xfrm>
            <a:off x="4638240" y="1550880"/>
            <a:ext cx="664200" cy="302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264" name="Rectangle 4"/>
          <p:cNvSpPr/>
          <p:nvPr/>
        </p:nvSpPr>
        <p:spPr>
          <a:xfrm>
            <a:off x="642960" y="2766960"/>
            <a:ext cx="76201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Times New Roman"/>
              </a:rPr>
              <a:t>http://localhost: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8080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searching/api/dataset/query?dsname=&amp;path=Player&amp;property=has_country&amp;operator=ISA&amp;value=&amp;valueRelation=european&amp;property=&amp;value=&amp;limit=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10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&amp;offset=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val 12"/>
          <p:cNvSpPr/>
          <p:nvPr/>
        </p:nvSpPr>
        <p:spPr>
          <a:xfrm>
            <a:off x="5343480" y="1587600"/>
            <a:ext cx="523800" cy="198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Straight Arrow Connector 13"/>
          <p:cNvCxnSpPr/>
          <p:nvPr/>
        </p:nvCxnSpPr>
        <p:spPr>
          <a:xfrm flipH="1">
            <a:off x="5105160" y="2190240"/>
            <a:ext cx="381600" cy="669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</p:cxnSp>
      <p:pic>
        <p:nvPicPr>
          <p:cNvPr id="267" name="Picture 16" descr=""/>
          <p:cNvPicPr/>
          <p:nvPr/>
        </p:nvPicPr>
        <p:blipFill>
          <a:blip r:embed="rId3"/>
          <a:srcRect l="0" t="0" r="0" b="4557"/>
          <a:stretch/>
        </p:blipFill>
        <p:spPr>
          <a:xfrm>
            <a:off x="1484280" y="3463920"/>
            <a:ext cx="5205600" cy="300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68" name="TextBox 15"/>
          <p:cNvSpPr/>
          <p:nvPr/>
        </p:nvSpPr>
        <p:spPr>
          <a:xfrm>
            <a:off x="7238880" y="3135240"/>
            <a:ext cx="16002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 UR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191120" y="5232240"/>
            <a:ext cx="221436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 in JSON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2 - Recommender Application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76360" y="4508280"/>
            <a:ext cx="6400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6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epare OWL ontology and update RD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Recommender Applica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reate rules in Microsoft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Mapping rules with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pl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Start search application to view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6: Prepare OWL ontology and 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86480" cy="42800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recommendation class in ont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5076720" y="3933720"/>
            <a:ext cx="3821040" cy="57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2771640" y="3757680"/>
            <a:ext cx="2448000" cy="2263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5219640" y="5094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8028000" y="3689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Required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Java Development Kit (JDK)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pSe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Navicat for MySQ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Notepad++ or Edit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Mozilla Firefox or Google Chrome Web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OpenOffice Calc or Microsoft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60E-E93B-4CA8-B907-94A9CB094D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rt OWL Ontology from</a:t>
            </a:r>
            <a:r>
              <a:rPr b="0" lang="th-TH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zo Ontology Edi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3435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Oval 3"/>
          <p:cNvSpPr/>
          <p:nvPr/>
        </p:nvSpPr>
        <p:spPr>
          <a:xfrm>
            <a:off x="1219320" y="380988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3809880" y="5029200"/>
            <a:ext cx="990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738360" y="160020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A47-2CB0-4BED-AFAB-ABFC17FDDA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086600" cy="5719680"/>
          </a:xfrm>
          <a:prstGeom prst="rect">
            <a:avLst/>
          </a:prstGeom>
          <a:ln w="0">
            <a:noFill/>
          </a:ln>
        </p:spPr>
      </p:pic>
      <p:sp>
        <p:nvSpPr>
          <p:cNvPr id="291" name="Oval 3"/>
          <p:cNvSpPr/>
          <p:nvPr/>
        </p:nvSpPr>
        <p:spPr>
          <a:xfrm>
            <a:off x="4782960" y="5410080"/>
            <a:ext cx="1600200" cy="766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B7EC-7C45-4F27-A71F-4A8D010A0A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Mapping Web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confi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524640" cy="420048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BC82-2293-409F-80FF-218B8D91CD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New Ontology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835-496E-47C2-AA05-0A34B48ABC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95280" y="1635120"/>
            <a:ext cx="8512200" cy="4314960"/>
          </a:xfrm>
          <a:prstGeom prst="rect">
            <a:avLst/>
          </a:prstGeom>
          <a:ln w="0">
            <a:noFill/>
          </a:ln>
        </p:spPr>
      </p:pic>
      <p:sp>
        <p:nvSpPr>
          <p:cNvPr id="300" name="Oval 1"/>
          <p:cNvSpPr/>
          <p:nvPr/>
        </p:nvSpPr>
        <p:spPr>
          <a:xfrm>
            <a:off x="395280" y="2637000"/>
            <a:ext cx="647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6875640" y="4508640"/>
            <a:ext cx="936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5219640" y="5445000"/>
            <a:ext cx="122400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747720" y="1295280"/>
            <a:ext cx="7620120" cy="5135760"/>
          </a:xfrm>
          <a:prstGeom prst="rect">
            <a:avLst/>
          </a:prstGeom>
          <a:ln w="0">
            <a:noFill/>
          </a:ln>
        </p:spPr>
      </p:pic>
      <p:sp>
        <p:nvSpPr>
          <p:cNvPr id="305" name="Oval 5"/>
          <p:cNvSpPr/>
          <p:nvPr/>
        </p:nvSpPr>
        <p:spPr>
          <a:xfrm>
            <a:off x="3781440" y="307188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838080" y="3378240"/>
            <a:ext cx="1371600" cy="20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489-1009-4B50-8894-E0472198B4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310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1C68-3754-4AB2-B85A-569D20107D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1835280" y="5661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** Please restart Tomcat after this step.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2/6: Recommender Application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a new class in Application Conf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332000" y="1413000"/>
            <a:ext cx="6553080" cy="4817880"/>
            <a:chOff x="1332000" y="1413000"/>
            <a:chExt cx="6553080" cy="4817880"/>
          </a:xfrm>
        </p:grpSpPr>
        <p:grpSp>
          <p:nvGrpSpPr>
            <p:cNvPr id="317" name="Group 4"/>
            <p:cNvGrpSpPr/>
            <p:nvPr/>
          </p:nvGrpSpPr>
          <p:grpSpPr>
            <a:xfrm>
              <a:off x="1332000" y="1413000"/>
              <a:ext cx="6553080" cy="3601440"/>
              <a:chOff x="1332000" y="1413000"/>
              <a:chExt cx="6553080" cy="3601440"/>
            </a:xfrm>
          </p:grpSpPr>
          <p:pic>
            <p:nvPicPr>
              <p:cNvPr id="318" name="Picture 8" descr="E:\PHUNG\Nectec's Ontology Application Development plateform\SKM_DATA\data v2\images\1.png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1413000"/>
                <a:ext cx="6553080" cy="36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Oval 9"/>
              <p:cNvSpPr/>
              <p:nvPr/>
            </p:nvSpPr>
            <p:spPr>
              <a:xfrm>
                <a:off x="1407960" y="4048200"/>
                <a:ext cx="618840" cy="199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Oval 10"/>
              <p:cNvSpPr/>
              <p:nvPr/>
            </p:nvSpPr>
            <p:spPr>
              <a:xfrm>
                <a:off x="6086520" y="4624560"/>
                <a:ext cx="1260360" cy="385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1" name="Picture 5" descr="E:\PHUNG\Nectec's Ontology Application Development plateform\SKM_DATA\data v2\images\aa2.png"/>
            <p:cNvPicPr/>
            <p:nvPr/>
          </p:nvPicPr>
          <p:blipFill>
            <a:blip r:embed="rId2"/>
            <a:stretch/>
          </p:blipFill>
          <p:spPr>
            <a:xfrm>
              <a:off x="3450240" y="5213520"/>
              <a:ext cx="37375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36896"/>
            <p:cNvSpPr/>
            <p:nvPr/>
          </p:nvSpPr>
          <p:spPr>
            <a:xfrm>
              <a:off x="4762440" y="5456160"/>
              <a:ext cx="14205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yer_Recommend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4525920" y="5840640"/>
              <a:ext cx="850680" cy="295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efine a Recommendation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16"/>
          <p:cNvGrpSpPr/>
          <p:nvPr/>
        </p:nvGrpSpPr>
        <p:grpSpPr>
          <a:xfrm>
            <a:off x="755640" y="1557360"/>
            <a:ext cx="7034400" cy="4630680"/>
            <a:chOff x="755640" y="1557360"/>
            <a:chExt cx="7034400" cy="4630680"/>
          </a:xfrm>
        </p:grpSpPr>
        <p:grpSp>
          <p:nvGrpSpPr>
            <p:cNvPr id="326" name="Group 17"/>
            <p:cNvGrpSpPr/>
            <p:nvPr/>
          </p:nvGrpSpPr>
          <p:grpSpPr>
            <a:xfrm>
              <a:off x="755640" y="1557360"/>
              <a:ext cx="7034400" cy="4524480"/>
              <a:chOff x="755640" y="1557360"/>
              <a:chExt cx="7034400" cy="4524480"/>
            </a:xfrm>
          </p:grpSpPr>
          <p:pic>
            <p:nvPicPr>
              <p:cNvPr id="327" name="Picture 20" descr="E:\PHUNG\Nectec's Ontology Application Development plateform\SKM_DATA\data v2\images\normal classs.png"/>
              <p:cNvPicPr/>
              <p:nvPr/>
            </p:nvPicPr>
            <p:blipFill>
              <a:blip r:embed="rId1"/>
              <a:stretch/>
            </p:blipFill>
            <p:spPr>
              <a:xfrm>
                <a:off x="755640" y="1557360"/>
                <a:ext cx="703440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Oval 21"/>
              <p:cNvSpPr/>
              <p:nvPr/>
            </p:nvSpPr>
            <p:spPr>
              <a:xfrm>
                <a:off x="6629760" y="5186520"/>
                <a:ext cx="404640" cy="3283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9" name="Picture 18" descr=""/>
            <p:cNvPicPr/>
            <p:nvPr/>
          </p:nvPicPr>
          <p:blipFill>
            <a:blip r:embed="rId2"/>
            <a:stretch/>
          </p:blipFill>
          <p:spPr>
            <a:xfrm>
              <a:off x="1358640" y="5558760"/>
              <a:ext cx="4148280" cy="6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Down Arrow 19"/>
            <p:cNvSpPr/>
            <p:nvPr/>
          </p:nvSpPr>
          <p:spPr>
            <a:xfrm rot="4297800">
              <a:off x="5563080" y="5363280"/>
              <a:ext cx="271440" cy="62532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TextBox 9"/>
          <p:cNvSpPr/>
          <p:nvPr/>
        </p:nvSpPr>
        <p:spPr>
          <a:xfrm>
            <a:off x="7284960" y="4724280"/>
            <a:ext cx="1800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ick to define that this is a recommendation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2" name="Straight Arrow Connector 23"/>
          <p:cNvCxnSpPr>
            <a:stCxn id="331" idx="1"/>
          </p:cNvCxnSpPr>
          <p:nvPr/>
        </p:nvCxnSpPr>
        <p:spPr>
          <a:xfrm flipH="1">
            <a:off x="7031880" y="5325840"/>
            <a:ext cx="25308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335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47BD-2257-45DC-B73A-DF944C2718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5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ing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L Ontology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Database in MySQ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base to Ontology Mapping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 Applica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Search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CAF-5D80-4212-AE57-30F4B5024C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3/6: Create rules in Microsoft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Excel to creat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to learn new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reate a large number of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can use any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88EC-56DB-4D81-B319-026EA4E9F9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headers for criteria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headers for criteria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ules in tabl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4E0-0646-4580-80F6-EEEEA1ADCA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headers for criteria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BFDB-3DFC-411A-8DF9-B05F776DFD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1600200" y="380988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iteria name for ‘Football Club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0000"/>
                </a:solidFill>
                <a:latin typeface="Calibri"/>
              </a:rPr>
              <a:t>สโมสรอยู่ในประเทศ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club count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riteria name for ‘Play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7030a0"/>
                </a:solidFill>
                <a:latin typeface="Calibri"/>
              </a:rPr>
              <a:t>อายุ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(player 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70c0"/>
                </a:solidFill>
                <a:latin typeface="Calibri"/>
              </a:rPr>
              <a:t>เล่นในประเทศ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(player’s club count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50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1" name="Rectangle 4"/>
            <p:cNvSpPr/>
            <p:nvPr/>
          </p:nvSpPr>
          <p:spPr>
            <a:xfrm>
              <a:off x="1599840" y="2133360"/>
              <a:ext cx="209556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733560" y="2128680"/>
              <a:ext cx="1257120" cy="38088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5029200" y="2128680"/>
              <a:ext cx="2362320" cy="380880"/>
            </a:xfrm>
            <a:prstGeom prst="rect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headers for criteria 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2ED-6C1A-4751-B36A-7514BAA653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1600200" y="358128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Calibri"/>
              </a:rPr>
              <a:t>สโมสรอยู่ในประเทศ </a:t>
            </a:r>
            <a:r>
              <a:rPr b="1" lang="th-TH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ub countr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=&gt;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‘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เอเชีย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’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(Asia), ‘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ยุโรป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’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(Europ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70c0"/>
                </a:solidFill>
                <a:latin typeface="Calibri"/>
              </a:rPr>
              <a:t>อายุ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player ag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=&gt;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‘&lt;23’, ‘&gt;=23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70c0"/>
                </a:solidFill>
                <a:latin typeface="Calibri"/>
              </a:rPr>
              <a:t>เล่นในประเทศ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player’s club cou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=&gt;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อเมริกาใต้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South America),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ยุโรป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Europe),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เอเชีย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As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9" name="Rectangle 4"/>
            <p:cNvSpPr/>
            <p:nvPr/>
          </p:nvSpPr>
          <p:spPr>
            <a:xfrm>
              <a:off x="1599840" y="2544480"/>
              <a:ext cx="2095560" cy="19836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11"/>
            <p:cNvSpPr/>
            <p:nvPr/>
          </p:nvSpPr>
          <p:spPr>
            <a:xfrm>
              <a:off x="3695400" y="2544480"/>
              <a:ext cx="1333440" cy="19836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5029200" y="2544480"/>
              <a:ext cx="2438280" cy="198360"/>
            </a:xfrm>
            <a:prstGeom prst="rect">
              <a:avLst/>
            </a:pr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rules in tab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42D-51B1-4822-9F38-592346BB70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65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6" name="Rectangle 6"/>
            <p:cNvSpPr/>
            <p:nvPr/>
          </p:nvSpPr>
          <p:spPr>
            <a:xfrm>
              <a:off x="1599840" y="2743200"/>
              <a:ext cx="2057400" cy="3808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3695400" y="2752560"/>
              <a:ext cx="1333440" cy="37152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5029200" y="2752560"/>
              <a:ext cx="2438280" cy="371520"/>
            </a:xfrm>
            <a:prstGeom prst="rect">
              <a:avLst/>
            </a:pr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TextBox 9"/>
          <p:cNvSpPr/>
          <p:nvPr/>
        </p:nvSpPr>
        <p:spPr>
          <a:xfrm>
            <a:off x="1600200" y="3581280"/>
            <a:ext cx="685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F (club’s country in Europe) THEN recommend (players who have ages &gt;= 23 and have club country in Asia)  to the clu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IF (club’s country is Asia) THEN recommend (players who have ages &gt;= 23 and have club country in Europe)  to the clu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4/6: Mapping rules with on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Rule Managem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ru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084-0A19-4D9C-94B4-13ED566436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62932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Oval 1"/>
          <p:cNvSpPr/>
          <p:nvPr/>
        </p:nvSpPr>
        <p:spPr>
          <a:xfrm>
            <a:off x="2438280" y="2286000"/>
            <a:ext cx="19814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load rules in Excel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rule criteria with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CC6-4348-49A8-8E40-6AC4F233CA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407880" y="1295280"/>
            <a:ext cx="4849920" cy="28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1" name="Picture 11" descr=""/>
          <p:cNvPicPr/>
          <p:nvPr/>
        </p:nvPicPr>
        <p:blipFill>
          <a:blip r:embed="rId2"/>
          <a:stretch/>
        </p:blipFill>
        <p:spPr>
          <a:xfrm>
            <a:off x="4572000" y="3598920"/>
            <a:ext cx="3962520" cy="28018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load rules in Excel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001-ACA0-46F5-B029-E792782B8F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4" name="Straight Arrow Connector 5"/>
          <p:cNvCxnSpPr/>
          <p:nvPr/>
        </p:nvCxnSpPr>
        <p:spPr>
          <a:xfrm>
            <a:off x="3733920" y="2819160"/>
            <a:ext cx="2210400" cy="6102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5" name="Oval 7"/>
          <p:cNvSpPr/>
          <p:nvPr/>
        </p:nvSpPr>
        <p:spPr>
          <a:xfrm>
            <a:off x="2971800" y="251460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7284960" y="6141960"/>
            <a:ext cx="6098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11"/>
          <p:cNvSpPr/>
          <p:nvPr/>
        </p:nvSpPr>
        <p:spPr>
          <a:xfrm>
            <a:off x="3003480" y="3048120"/>
            <a:ext cx="18352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533520" y="3657600"/>
            <a:ext cx="6094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5: Preparing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WL Ontology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rule criteria with ont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683E-8E4F-4D43-B67D-FC5597145C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65760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527688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3" name="Oval 4"/>
          <p:cNvSpPr/>
          <p:nvPr/>
        </p:nvSpPr>
        <p:spPr>
          <a:xfrm>
            <a:off x="380880" y="2209680"/>
            <a:ext cx="144792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4" name="Straight Arrow Connector 6"/>
          <p:cNvCxnSpPr>
            <a:stCxn id="393" idx="5"/>
          </p:cNvCxnSpPr>
          <p:nvPr/>
        </p:nvCxnSpPr>
        <p:spPr>
          <a:xfrm>
            <a:off x="1616040" y="2405160"/>
            <a:ext cx="822960" cy="64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Oval 10"/>
          <p:cNvSpPr/>
          <p:nvPr/>
        </p:nvSpPr>
        <p:spPr>
          <a:xfrm>
            <a:off x="3429000" y="2590920"/>
            <a:ext cx="327672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5524560" y="2725560"/>
            <a:ext cx="2400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pping criteria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2514600" y="3657600"/>
            <a:ext cx="512460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1257480" y="4197240"/>
            <a:ext cx="236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pping criteria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9" name="Straight Arrow Connector 14"/>
          <p:cNvCxnSpPr/>
          <p:nvPr/>
        </p:nvCxnSpPr>
        <p:spPr>
          <a:xfrm>
            <a:off x="6095520" y="3428640"/>
            <a:ext cx="128052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0" name="Rectangle 15"/>
          <p:cNvSpPr/>
          <p:nvPr/>
        </p:nvSpPr>
        <p:spPr>
          <a:xfrm>
            <a:off x="6880320" y="350532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Object proper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5873040" y="415116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Class na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ight Brace 16"/>
          <p:cNvSpPr/>
          <p:nvPr/>
        </p:nvSpPr>
        <p:spPr>
          <a:xfrm>
            <a:off x="5524560" y="3765600"/>
            <a:ext cx="342720" cy="1111320"/>
          </a:xfrm>
          <a:custGeom>
            <a:avLst/>
            <a:gdLst>
              <a:gd name="textAreaLeft" fmla="*/ 0 w 342720"/>
              <a:gd name="textAreaRight" fmla="*/ 123840 w 342720"/>
              <a:gd name="textAreaTop" fmla="*/ 8640 h 1111320"/>
              <a:gd name="textAreaBottom" fmla="*/ 110268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rule criteri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9E1-3EB8-429B-A975-EAED67E63B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969920" y="1295280"/>
            <a:ext cx="5105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Right Brace 4"/>
          <p:cNvSpPr/>
          <p:nvPr/>
        </p:nvSpPr>
        <p:spPr>
          <a:xfrm>
            <a:off x="4865760" y="3200400"/>
            <a:ext cx="304560" cy="7621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762120"/>
              <a:gd name="textAreaBottom" fmla="*/ 754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5322960" y="3429000"/>
            <a:ext cx="1447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rator +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8" name="Straight Arrow Connector 8"/>
          <p:cNvCxnSpPr/>
          <p:nvPr/>
        </p:nvCxnSpPr>
        <p:spPr>
          <a:xfrm>
            <a:off x="4637160" y="2971440"/>
            <a:ext cx="4579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9" name="TextBox 10"/>
          <p:cNvSpPr/>
          <p:nvPr/>
        </p:nvSpPr>
        <p:spPr>
          <a:xfrm>
            <a:off x="5170320" y="281772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type prope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ight Brace 11"/>
          <p:cNvSpPr/>
          <p:nvPr/>
        </p:nvSpPr>
        <p:spPr>
          <a:xfrm>
            <a:off x="5257800" y="507672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762120"/>
              <a:gd name="textAreaBottom" fmla="*/ 754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5000" y="5305320"/>
            <a:ext cx="14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ass n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2" name="Straight Arrow Connector 13"/>
          <p:cNvCxnSpPr/>
          <p:nvPr/>
        </p:nvCxnSpPr>
        <p:spPr>
          <a:xfrm>
            <a:off x="5029200" y="4847760"/>
            <a:ext cx="4579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3" name="TextBox 14"/>
          <p:cNvSpPr/>
          <p:nvPr/>
        </p:nvSpPr>
        <p:spPr>
          <a:xfrm>
            <a:off x="5562720" y="469584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bject prope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5"/>
          <p:cNvSpPr/>
          <p:nvPr/>
        </p:nvSpPr>
        <p:spPr>
          <a:xfrm>
            <a:off x="1873080" y="6181560"/>
            <a:ext cx="793800" cy="295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Creating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B82-2C7B-4D69-ACBA-96A599D728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0" t="7655" r="3169" b="13623"/>
          <a:stretch/>
        </p:blipFill>
        <p:spPr>
          <a:xfrm>
            <a:off x="380880" y="1371600"/>
            <a:ext cx="542304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Oval 6"/>
          <p:cNvSpPr/>
          <p:nvPr/>
        </p:nvSpPr>
        <p:spPr>
          <a:xfrm>
            <a:off x="457200" y="2944800"/>
            <a:ext cx="28195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3259080" y="2895480"/>
            <a:ext cx="17463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2"/>
          <a:srcRect l="0" t="12703" r="0" b="0"/>
          <a:stretch/>
        </p:blipFill>
        <p:spPr>
          <a:xfrm>
            <a:off x="152280" y="4343400"/>
            <a:ext cx="381024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421" name="Straight Arrow Connector 11"/>
          <p:cNvCxnSpPr/>
          <p:nvPr/>
        </p:nvCxnSpPr>
        <p:spPr>
          <a:xfrm>
            <a:off x="1866600" y="3455640"/>
            <a:ext cx="1080" cy="888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2" name="Straight Arrow Connector 15"/>
          <p:cNvCxnSpPr/>
          <p:nvPr/>
        </p:nvCxnSpPr>
        <p:spPr>
          <a:xfrm>
            <a:off x="5005440" y="3173400"/>
            <a:ext cx="799200" cy="7275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423" name="Picture 4" descr=""/>
          <p:cNvPicPr/>
          <p:nvPr/>
        </p:nvPicPr>
        <p:blipFill>
          <a:blip r:embed="rId3"/>
          <a:srcRect l="3569" t="0" r="0" b="0"/>
          <a:stretch/>
        </p:blipFill>
        <p:spPr>
          <a:xfrm>
            <a:off x="4125960" y="3919680"/>
            <a:ext cx="492444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6: Appl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ppl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428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D6E-BEDA-482F-8D41-43BC843100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"/>
          <p:cNvSpPr/>
          <p:nvPr/>
        </p:nvSpPr>
        <p:spPr>
          <a:xfrm>
            <a:off x="1835280" y="5661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** Please restart Tomcat after this step.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1246320" y="3048120"/>
            <a:ext cx="96336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2908080" y="137952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ttp://localhost:8080/confi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6/6: Start search application to view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934920" y="1360440"/>
            <a:ext cx="6748560" cy="488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Application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6248520" y="31240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A7D-B269-4239-A7D0-FAC2E7DD42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43000" y="4191120"/>
            <a:ext cx="533520" cy="244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638360" y="1778040"/>
            <a:ext cx="586728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dd Display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6019920" y="4565520"/>
            <a:ext cx="129528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032-619C-44C8-9BB0-89E26F2E85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Search/Display Prope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5F10-3B6A-4003-B9E9-7B85E24FD0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8480" y="3672000"/>
            <a:ext cx="3887640" cy="1780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7200" y="1514520"/>
            <a:ext cx="4114800" cy="1720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4648320" y="1514520"/>
            <a:ext cx="3948120" cy="1762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3998880" cy="1828800"/>
          </a:xfrm>
          <a:prstGeom prst="rect">
            <a:avLst/>
          </a:prstGeom>
          <a:ln w="0">
            <a:noFill/>
          </a:ln>
        </p:spPr>
      </p:pic>
      <p:sp>
        <p:nvSpPr>
          <p:cNvPr id="450" name="Oval 7"/>
          <p:cNvSpPr/>
          <p:nvPr/>
        </p:nvSpPr>
        <p:spPr>
          <a:xfrm>
            <a:off x="4952880" y="5105520"/>
            <a:ext cx="762120" cy="31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453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49A-4E6A-4892-A612-D75BEDB1D3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Export OWL Ontology from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Hozo Ontology Edi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3435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Oval 3"/>
          <p:cNvSpPr/>
          <p:nvPr/>
        </p:nvSpPr>
        <p:spPr>
          <a:xfrm>
            <a:off x="1219320" y="380988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809880" y="5029200"/>
            <a:ext cx="990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738360" y="160020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8730-8FAC-4C77-AC5A-369C917623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arch to view recommendation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ocalhost:8080/search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97D-A1CC-4DBE-8D77-A3EC0C313E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rcRect l="0" t="0" r="2407" b="0"/>
          <a:stretch/>
        </p:blipFill>
        <p:spPr>
          <a:xfrm>
            <a:off x="189000" y="2057400"/>
            <a:ext cx="8802720" cy="31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0" name="Oval 6"/>
          <p:cNvSpPr/>
          <p:nvPr/>
        </p:nvSpPr>
        <p:spPr>
          <a:xfrm flipV="1">
            <a:off x="152280" y="2068920"/>
            <a:ext cx="6782040" cy="1282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7"/>
          <p:cNvSpPr/>
          <p:nvPr/>
        </p:nvSpPr>
        <p:spPr>
          <a:xfrm flipV="1">
            <a:off x="6553080" y="3504600"/>
            <a:ext cx="2514600" cy="1904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274320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095880" y="5545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Recommendati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3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Recommender Web API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76360" y="4508280"/>
            <a:ext cx="6400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ed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r Web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r Web Service Configuration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A9E-4F24-4F32-AF80-29395A01A4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mmender Web Servic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A89-E5BF-45F6-A426-E11F7AE775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1676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2" name="Group 9"/>
          <p:cNvGrpSpPr/>
          <p:nvPr/>
        </p:nvGrpSpPr>
        <p:grpSpPr>
          <a:xfrm>
            <a:off x="304920" y="1143000"/>
            <a:ext cx="8458200" cy="990720"/>
            <a:chOff x="304920" y="1143000"/>
            <a:chExt cx="8458200" cy="990720"/>
          </a:xfrm>
        </p:grpSpPr>
        <p:sp>
          <p:nvSpPr>
            <p:cNvPr id="473" name="Rectangle 5"/>
            <p:cNvSpPr/>
            <p:nvPr/>
          </p:nvSpPr>
          <p:spPr>
            <a:xfrm>
              <a:off x="304920" y="1512720"/>
              <a:ext cx="8458200" cy="621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TextBox 7"/>
            <p:cNvSpPr/>
            <p:nvPr/>
          </p:nvSpPr>
          <p:spPr>
            <a:xfrm>
              <a:off x="6248520" y="11430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Group 10"/>
          <p:cNvGrpSpPr/>
          <p:nvPr/>
        </p:nvGrpSpPr>
        <p:grpSpPr>
          <a:xfrm>
            <a:off x="322200" y="2717640"/>
            <a:ext cx="8458200" cy="3378240"/>
            <a:chOff x="322200" y="2717640"/>
            <a:chExt cx="8458200" cy="3378240"/>
          </a:xfrm>
        </p:grpSpPr>
        <p:sp>
          <p:nvSpPr>
            <p:cNvPr id="476" name="Rectangle 6"/>
            <p:cNvSpPr/>
            <p:nvPr/>
          </p:nvSpPr>
          <p:spPr>
            <a:xfrm>
              <a:off x="322200" y="2717640"/>
              <a:ext cx="8458200" cy="3378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Box 8"/>
            <p:cNvSpPr/>
            <p:nvPr/>
          </p:nvSpPr>
          <p:spPr>
            <a:xfrm>
              <a:off x="7239240" y="28958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5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onnect to Web API config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reate config pr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Web API input parameter 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Web API Output confi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Test Web API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5: Connect to Web API config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1438200" y="6205680"/>
            <a:ext cx="67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* copy “ws_adm” from “OAM_Tools\software\add-on”</a:t>
            </a:r>
            <a:r>
              <a:rPr b="0" lang="th-TH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o “C:\AppServ\www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uration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eb Browser at URL: http://localhost/ws_ad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4CD5-61F5-482B-B200-93333B8DDC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724280" cy="446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Oval 4"/>
          <p:cNvSpPr/>
          <p:nvPr/>
        </p:nvSpPr>
        <p:spPr>
          <a:xfrm>
            <a:off x="2666880" y="236232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uration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13A9-C602-4726-989A-8B54111EB9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019160" y="1790640"/>
            <a:ext cx="7105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2/5: Create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new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77B-514D-4871-8682-9B478E6457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1"/>
          <p:cNvGrpSpPr/>
          <p:nvPr/>
        </p:nvGrpSpPr>
        <p:grpSpPr>
          <a:xfrm>
            <a:off x="1600200" y="1523880"/>
            <a:ext cx="5987880" cy="4038840"/>
            <a:chOff x="1600200" y="1523880"/>
            <a:chExt cx="5987880" cy="4038840"/>
          </a:xfrm>
        </p:grpSpPr>
        <p:pic>
          <p:nvPicPr>
            <p:cNvPr id="496" name="Picture 2" descr=""/>
            <p:cNvPicPr/>
            <p:nvPr/>
          </p:nvPicPr>
          <p:blipFill>
            <a:blip r:embed="rId1"/>
            <a:stretch/>
          </p:blipFill>
          <p:spPr>
            <a:xfrm>
              <a:off x="1600200" y="1523880"/>
              <a:ext cx="5987880" cy="172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97" name="Picture 3" descr=""/>
            <p:cNvPicPr/>
            <p:nvPr/>
          </p:nvPicPr>
          <p:blipFill>
            <a:blip r:embed="rId2"/>
            <a:stretch/>
          </p:blipFill>
          <p:spPr>
            <a:xfrm>
              <a:off x="1600200" y="3890880"/>
              <a:ext cx="5987880" cy="16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8" name="Down Arrow 4"/>
            <p:cNvSpPr/>
            <p:nvPr/>
          </p:nvSpPr>
          <p:spPr>
            <a:xfrm>
              <a:off x="4267080" y="3352680"/>
              <a:ext cx="838080" cy="304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3627360" y="182052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627360" y="457380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Oval 11"/>
            <p:cNvSpPr/>
            <p:nvPr/>
          </p:nvSpPr>
          <p:spPr>
            <a:xfrm>
              <a:off x="5257800" y="510552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Oval 10"/>
            <p:cNvSpPr/>
            <p:nvPr/>
          </p:nvSpPr>
          <p:spPr>
            <a:xfrm>
              <a:off x="5257800" y="290664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086600" cy="5719680"/>
          </a:xfrm>
          <a:prstGeom prst="rect">
            <a:avLst/>
          </a:prstGeom>
          <a:ln w="0">
            <a:noFill/>
          </a:ln>
        </p:spPr>
      </p:pic>
      <p:sp>
        <p:nvSpPr>
          <p:cNvPr id="72" name="Oval 3"/>
          <p:cNvSpPr/>
          <p:nvPr/>
        </p:nvSpPr>
        <p:spPr>
          <a:xfrm>
            <a:off x="4782960" y="5410080"/>
            <a:ext cx="1600200" cy="766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285-F0E0-4118-998E-C9BF27C131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B2FB-5BE7-484B-8A32-C33F70ACBC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5410440" cy="52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Oval 5"/>
          <p:cNvSpPr/>
          <p:nvPr/>
        </p:nvSpPr>
        <p:spPr>
          <a:xfrm>
            <a:off x="1600200" y="3048120"/>
            <a:ext cx="304812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1143000" y="4343400"/>
            <a:ext cx="487692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4800600" y="2814480"/>
            <a:ext cx="2438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Database setting (the same database used in DB-ontology mapp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095880" y="449568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KAF_HOME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1828800" y="1692360"/>
            <a:ext cx="91440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3/5: Web API input parameter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Input Parameter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473E-50F5-4F14-9613-DBF5D3F8AB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1"/>
          <p:cNvGrpSpPr/>
          <p:nvPr/>
        </p:nvGrpSpPr>
        <p:grpSpPr>
          <a:xfrm>
            <a:off x="700200" y="1600200"/>
            <a:ext cx="7072200" cy="3886200"/>
            <a:chOff x="700200" y="1600200"/>
            <a:chExt cx="7072200" cy="3886200"/>
          </a:xfrm>
        </p:grpSpPr>
        <p:pic>
          <p:nvPicPr>
            <p:cNvPr id="517" name="Picture 2" descr=""/>
            <p:cNvPicPr/>
            <p:nvPr/>
          </p:nvPicPr>
          <p:blipFill>
            <a:blip r:embed="rId2"/>
            <a:srcRect l="0" t="11491" r="0" b="0"/>
            <a:stretch/>
          </p:blipFill>
          <p:spPr>
            <a:xfrm>
              <a:off x="700200" y="1600200"/>
              <a:ext cx="7072200" cy="306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8" name="Oval 5"/>
            <p:cNvSpPr/>
            <p:nvPr/>
          </p:nvSpPr>
          <p:spPr>
            <a:xfrm>
              <a:off x="2895480" y="1752480"/>
              <a:ext cx="106668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2819520" y="354312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2971800" y="411480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TextBox 8"/>
            <p:cNvSpPr/>
            <p:nvPr/>
          </p:nvSpPr>
          <p:spPr>
            <a:xfrm>
              <a:off x="4264200" y="3276720"/>
              <a:ext cx="1298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lass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9"/>
            <p:cNvSpPr/>
            <p:nvPr/>
          </p:nvSpPr>
          <p:spPr>
            <a:xfrm>
              <a:off x="4496040" y="4097520"/>
              <a:ext cx="1298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able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3" name="Picture 3" descr=""/>
            <p:cNvPicPr/>
            <p:nvPr/>
          </p:nvPicPr>
          <p:blipFill>
            <a:blip r:embed="rId3"/>
            <a:srcRect l="44623" t="0" r="14314" b="85523"/>
            <a:stretch/>
          </p:blipFill>
          <p:spPr>
            <a:xfrm>
              <a:off x="3075120" y="5029200"/>
              <a:ext cx="2322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Oval 13"/>
            <p:cNvSpPr/>
            <p:nvPr/>
          </p:nvSpPr>
          <p:spPr>
            <a:xfrm>
              <a:off x="3613320" y="502920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Input Parameter Config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983-451F-493F-A351-4C6A560CBB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"/>
          <p:cNvGrpSpPr/>
          <p:nvPr/>
        </p:nvGrpSpPr>
        <p:grpSpPr>
          <a:xfrm>
            <a:off x="533520" y="1751040"/>
            <a:ext cx="7962840" cy="3583080"/>
            <a:chOff x="533520" y="1751040"/>
            <a:chExt cx="7962840" cy="3583080"/>
          </a:xfrm>
        </p:grpSpPr>
        <p:pic>
          <p:nvPicPr>
            <p:cNvPr id="528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1751040"/>
              <a:ext cx="7962840" cy="358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9" name="Oval 5"/>
            <p:cNvSpPr/>
            <p:nvPr/>
          </p:nvSpPr>
          <p:spPr>
            <a:xfrm>
              <a:off x="2743200" y="2055600"/>
              <a:ext cx="1828800" cy="2667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Oval 7"/>
            <p:cNvSpPr/>
            <p:nvPr/>
          </p:nvSpPr>
          <p:spPr>
            <a:xfrm>
              <a:off x="5639040" y="2039760"/>
              <a:ext cx="1828800" cy="2667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5105520" y="4799160"/>
              <a:ext cx="152388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4/5: Web API Output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Output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AB3-43BC-4842-B7CC-F0DF86D93F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1"/>
          <p:cNvGrpSpPr/>
          <p:nvPr/>
        </p:nvGrpSpPr>
        <p:grpSpPr>
          <a:xfrm>
            <a:off x="1447920" y="1332000"/>
            <a:ext cx="7086600" cy="5145120"/>
            <a:chOff x="1447920" y="1332000"/>
            <a:chExt cx="7086600" cy="5145120"/>
          </a:xfrm>
        </p:grpSpPr>
        <p:pic>
          <p:nvPicPr>
            <p:cNvPr id="537" name="Picture 2" descr=""/>
            <p:cNvPicPr/>
            <p:nvPr/>
          </p:nvPicPr>
          <p:blipFill>
            <a:blip r:embed="rId1"/>
            <a:stretch/>
          </p:blipFill>
          <p:spPr>
            <a:xfrm>
              <a:off x="1447920" y="1332000"/>
              <a:ext cx="6210360" cy="514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8" name="Oval 5"/>
            <p:cNvSpPr/>
            <p:nvPr/>
          </p:nvSpPr>
          <p:spPr>
            <a:xfrm>
              <a:off x="4343400" y="150012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6"/>
            <p:cNvSpPr/>
            <p:nvPr/>
          </p:nvSpPr>
          <p:spPr>
            <a:xfrm>
              <a:off x="3429000" y="293220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429000" y="506592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3400560" y="454824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4419720" y="282096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XML tag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4359240" y="4623120"/>
              <a:ext cx="3270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roperty linked to ‘Player’ cla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4361040" y="5065920"/>
              <a:ext cx="4173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roperty of ‘Player’ class to show in resul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4953240" y="582804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5: Test Web AP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762120" y="1558800"/>
            <a:ext cx="7476840" cy="28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test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C036-373E-433F-9C61-D24E55CFF5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63244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form_test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1676520" y="4857840"/>
            <a:ext cx="606744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3" name="Down Arrow 5"/>
          <p:cNvSpPr/>
          <p:nvPr/>
        </p:nvSpPr>
        <p:spPr>
          <a:xfrm>
            <a:off x="4343400" y="4495680"/>
            <a:ext cx="9144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Straight Arrow Connector 9"/>
          <p:cNvCxnSpPr>
            <a:stCxn id="555" idx="2"/>
          </p:cNvCxnSpPr>
          <p:nvPr/>
        </p:nvCxnSpPr>
        <p:spPr>
          <a:xfrm>
            <a:off x="4457880" y="1481040"/>
            <a:ext cx="815040" cy="88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55" name="Rectangle 1"/>
          <p:cNvSpPr/>
          <p:nvPr/>
        </p:nvSpPr>
        <p:spPr>
          <a:xfrm>
            <a:off x="762120" y="114300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localhost:8080/rec_api/WS/state/reccommend/football/Football_clu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 Web API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C1CF-50A0-43DD-9815-3A956ADE4C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648504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0" name="Oval 6"/>
          <p:cNvSpPr/>
          <p:nvPr/>
        </p:nvSpPr>
        <p:spPr>
          <a:xfrm>
            <a:off x="304920" y="2209680"/>
            <a:ext cx="609480" cy="182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6172200" y="2666880"/>
            <a:ext cx="25146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990720" y="3657600"/>
            <a:ext cx="4876560" cy="25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6553080" y="129528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Input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5767560" y="4121280"/>
            <a:ext cx="185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Web API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4952880" y="264960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13"/>
          <p:cNvSpPr/>
          <p:nvPr/>
        </p:nvSpPr>
        <p:spPr>
          <a:xfrm>
            <a:off x="5410080" y="2735280"/>
            <a:ext cx="7621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9"/>
          <p:cNvSpPr/>
          <p:nvPr/>
        </p:nvSpPr>
        <p:spPr>
          <a:xfrm>
            <a:off x="5867280" y="1752480"/>
            <a:ext cx="129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4800600" y="2144880"/>
            <a:ext cx="14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Pro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Straight Arrow Connector 2"/>
          <p:cNvCxnSpPr>
            <a:stCxn id="568" idx="2"/>
            <a:endCxn id="565" idx="0"/>
          </p:cNvCxnSpPr>
          <p:nvPr/>
        </p:nvCxnSpPr>
        <p:spPr>
          <a:xfrm flipH="1">
            <a:off x="5180760" y="2514240"/>
            <a:ext cx="343800" cy="13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70" name="Straight Arrow Connector 18"/>
          <p:cNvCxnSpPr>
            <a:stCxn id="567" idx="2"/>
            <a:endCxn id="566" idx="7"/>
          </p:cNvCxnSpPr>
          <p:nvPr/>
        </p:nvCxnSpPr>
        <p:spPr>
          <a:xfrm flipH="1">
            <a:off x="6060600" y="2122560"/>
            <a:ext cx="455040" cy="68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71" name="Straight Arrow Connector 20"/>
          <p:cNvCxnSpPr>
            <a:stCxn id="563" idx="2"/>
            <a:endCxn id="561" idx="0"/>
          </p:cNvCxnSpPr>
          <p:nvPr/>
        </p:nvCxnSpPr>
        <p:spPr>
          <a:xfrm flipH="1">
            <a:off x="7428960" y="1665360"/>
            <a:ext cx="76680" cy="100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End of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lst.nectec.or.th/oa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3F2-3A1B-4D7B-BC96-1E44F77EA8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2:33:02Z</dcterms:created>
  <dc:creator>Marut</dc:creator>
  <dc:description/>
  <dc:language>en-US</dc:language>
  <cp:lastModifiedBy>Marut Buranarach</cp:lastModifiedBy>
  <cp:lastPrinted>2016-02-07T11:54:06Z</cp:lastPrinted>
  <dcterms:modified xsi:type="dcterms:W3CDTF">2016-12-22T07:22:58Z</dcterms:modified>
  <cp:revision>111</cp:revision>
  <dc:subject/>
  <dc:title>PowerPoint Presentation</dc:title>
</cp:coreProperties>
</file>