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92B-E240-4756-9E33-C3CCB6E9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0E2-7ED1-487C-8BB4-4DD7A892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F48F-C4BE-4F5E-821E-221CA518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8183-24EA-4B44-8C6C-EC2882FF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9CF5-35D5-48C4-9D98-0AE85474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EF4-2FD9-454A-8D7A-7F0D8D59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092-3323-44E9-8210-F23DD97A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0B4-5E7B-4108-9299-F96AC705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E83F-BFFB-49CE-903D-0E445B64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485-209A-413B-BB84-C410A4BB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D8A5-0FA1-4659-A178-AC4245DF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EA2F-C38D-4883-ADF8-E6A58FFF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5C7A-AD85-4AE4-8C7E-E6D48CB5A9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FA98-7372-4CDB-9591-FEA3743A0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jena.apache.org/" TargetMode="External"/><Relationship Id="rId2" Type="http://schemas.openxmlformats.org/officeDocument/2006/relationships/hyperlink" Target="http://d2rq.org/" TargetMode="External"/><Relationship Id="rId3" Type="http://schemas.openxmlformats.org/officeDocument/2006/relationships/hyperlink" Target="http://www.hozo.jp/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9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Ontology Application Management (OAM) Framework User Tu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lst.nectec.or.th/oa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934920" y="3657600"/>
            <a:ext cx="769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art 1: Database to Ontology Mapping &amp; Semantic Search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art 2: Recommender Application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art 3: Recommender Web API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553080" y="640080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Last updated: Dec 22,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073320" y="640080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© LST Lab, NECTEC, Thai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</a:t>
            </a:r>
            <a:r>
              <a:rPr b="0" lang="th-TH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2/5 -</a:t>
            </a:r>
            <a:r>
              <a:rPr b="0" lang="th-TH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Create a Database in MySQ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eate database data using Microsoft Excel or</a:t>
            </a:r>
            <a:r>
              <a:rPr b="0" lang="th-TH" sz="40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office Cal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52280" y="1424160"/>
            <a:ext cx="8763120" cy="215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3790800" y="3875040"/>
            <a:ext cx="504828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228600" y="3776760"/>
            <a:ext cx="3159000" cy="254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TextBox 4"/>
          <p:cNvSpPr/>
          <p:nvPr/>
        </p:nvSpPr>
        <p:spPr>
          <a:xfrm>
            <a:off x="6315120" y="3200400"/>
            <a:ext cx="2448000" cy="4597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player_sample.x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762840" y="6095880"/>
            <a:ext cx="2579400" cy="4597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ountry_sample.x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6611040" y="6014880"/>
            <a:ext cx="2142000" cy="4597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lub_sample.x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9407-3A30-463E-A172-65C13291EDF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140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port database data to MySQL Database using</a:t>
            </a:r>
            <a:r>
              <a:rPr b="0" lang="th-TH" sz="40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vic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914400" y="1284120"/>
            <a:ext cx="7288200" cy="503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7" name="Oval 3"/>
          <p:cNvSpPr/>
          <p:nvPr/>
        </p:nvSpPr>
        <p:spPr>
          <a:xfrm>
            <a:off x="685800" y="1676520"/>
            <a:ext cx="1143000" cy="99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5"/>
          <p:cNvSpPr/>
          <p:nvPr/>
        </p:nvSpPr>
        <p:spPr>
          <a:xfrm>
            <a:off x="3408480" y="3581280"/>
            <a:ext cx="11430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6"/>
          <p:cNvSpPr/>
          <p:nvPr/>
        </p:nvSpPr>
        <p:spPr>
          <a:xfrm>
            <a:off x="3276720" y="5105520"/>
            <a:ext cx="128088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8CA1-5977-4112-B655-6D84E5304FA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30200" y="457200"/>
            <a:ext cx="4162320" cy="532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886200" y="1828800"/>
            <a:ext cx="4976640" cy="4343400"/>
          </a:xfrm>
          <a:prstGeom prst="rect">
            <a:avLst/>
          </a:prstGeom>
          <a:ln w="0">
            <a:noFill/>
          </a:ln>
        </p:spPr>
      </p:pic>
      <p:sp>
        <p:nvSpPr>
          <p:cNvPr id="93" name="Oval 3"/>
          <p:cNvSpPr/>
          <p:nvPr/>
        </p:nvSpPr>
        <p:spPr>
          <a:xfrm>
            <a:off x="1523880" y="3119400"/>
            <a:ext cx="1447920" cy="309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8"/>
          <p:cNvSpPr/>
          <p:nvPr/>
        </p:nvSpPr>
        <p:spPr>
          <a:xfrm>
            <a:off x="5334120" y="2206800"/>
            <a:ext cx="2971800" cy="1823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056200" y="71928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reate New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5E88-25C7-4A96-B7BC-A2C9493C272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Import Data from Ex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33240" y="1066680"/>
            <a:ext cx="1943280" cy="2152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2590920" y="1343160"/>
            <a:ext cx="3429000" cy="3027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4216320" y="1836720"/>
            <a:ext cx="3606840" cy="3184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4800600" y="3475080"/>
            <a:ext cx="3327480" cy="2940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5"/>
          <a:srcRect l="0" t="-55782" r="0" b="111503"/>
          <a:stretch/>
        </p:blipFill>
        <p:spPr>
          <a:xfrm>
            <a:off x="633240" y="2705040"/>
            <a:ext cx="4667400" cy="1839960"/>
          </a:xfrm>
          <a:prstGeom prst="rect">
            <a:avLst/>
          </a:prstGeom>
          <a:ln w="0">
            <a:noFill/>
          </a:ln>
        </p:spPr>
      </p:pic>
      <p:sp>
        <p:nvSpPr>
          <p:cNvPr id="10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A597-0F80-4C38-8319-39BC990D79F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657680" cy="4086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4724280" cy="4162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2813040" y="1981080"/>
            <a:ext cx="4724280" cy="4172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4"/>
          <a:stretch/>
        </p:blipFill>
        <p:spPr>
          <a:xfrm>
            <a:off x="3733920" y="295200"/>
            <a:ext cx="4724280" cy="4172040"/>
          </a:xfrm>
          <a:prstGeom prst="rect">
            <a:avLst/>
          </a:prstGeom>
          <a:ln w="0">
            <a:noFill/>
          </a:ln>
        </p:spPr>
      </p:pic>
      <p:sp>
        <p:nvSpPr>
          <p:cNvPr id="108" name="Oval 3"/>
          <p:cNvSpPr/>
          <p:nvPr/>
        </p:nvSpPr>
        <p:spPr>
          <a:xfrm>
            <a:off x="6705720" y="4067280"/>
            <a:ext cx="990360" cy="199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40B5-8E12-47DC-884F-017A21561F5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000000"/>
              </a:solidFill>
              <a:latin typeface="Calibri"/>
              <a:ea typeface="Angsana New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83868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Oval 3"/>
          <p:cNvSpPr/>
          <p:nvPr/>
        </p:nvSpPr>
        <p:spPr>
          <a:xfrm>
            <a:off x="3173400" y="149400"/>
            <a:ext cx="11430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2376360" y="1447920"/>
            <a:ext cx="6381720" cy="116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Picture 5" descr=""/>
          <p:cNvPicPr/>
          <p:nvPr/>
        </p:nvPicPr>
        <p:blipFill>
          <a:blip r:embed="rId3"/>
          <a:stretch/>
        </p:blipFill>
        <p:spPr>
          <a:xfrm>
            <a:off x="2382840" y="2828880"/>
            <a:ext cx="6438960" cy="12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2346480" y="4191120"/>
            <a:ext cx="6475320" cy="1990440"/>
          </a:xfrm>
          <a:prstGeom prst="rect">
            <a:avLst/>
          </a:prstGeom>
          <a:ln w="0">
            <a:noFill/>
          </a:ln>
        </p:spPr>
      </p:pic>
      <p:sp>
        <p:nvSpPr>
          <p:cNvPr id="116" name="Oval 13"/>
          <p:cNvSpPr/>
          <p:nvPr/>
        </p:nvSpPr>
        <p:spPr>
          <a:xfrm>
            <a:off x="7772400" y="1630440"/>
            <a:ext cx="11430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7772400" y="3243240"/>
            <a:ext cx="11430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5"/>
          <p:cNvSpPr/>
          <p:nvPr/>
        </p:nvSpPr>
        <p:spPr>
          <a:xfrm>
            <a:off x="7615080" y="5334120"/>
            <a:ext cx="11430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E2D4-C80B-4372-B4EA-16C007AA2E6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</a:t>
            </a:r>
            <a:r>
              <a:rPr b="0" lang="th-TH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3/5: Database to Ontology Mapping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"/>
          <p:cNvPicPr/>
          <p:nvPr/>
        </p:nvPicPr>
        <p:blipFill>
          <a:blip r:embed="rId1"/>
          <a:stretch/>
        </p:blipFill>
        <p:spPr>
          <a:xfrm>
            <a:off x="988920" y="1333440"/>
            <a:ext cx="4116600" cy="45547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et up Environment Vari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3200400" y="3809880"/>
            <a:ext cx="5054760" cy="2167200"/>
          </a:xfrm>
          <a:prstGeom prst="rect">
            <a:avLst/>
          </a:prstGeom>
          <a:ln w="0">
            <a:noFill/>
          </a:ln>
        </p:spPr>
      </p:pic>
      <p:sp>
        <p:nvSpPr>
          <p:cNvPr id="125" name="Oval 3"/>
          <p:cNvSpPr/>
          <p:nvPr/>
        </p:nvSpPr>
        <p:spPr>
          <a:xfrm>
            <a:off x="2209680" y="3089160"/>
            <a:ext cx="884520" cy="416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5821200" y="5257800"/>
            <a:ext cx="88452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F3B6-3336-4654-98BF-44D885EAE9E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ngsana New"/>
              </a:rPr>
              <a:t>Set up internal datab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33520" y="1328760"/>
            <a:ext cx="3800520" cy="42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" name="Oval 3"/>
          <p:cNvSpPr/>
          <p:nvPr/>
        </p:nvSpPr>
        <p:spPr>
          <a:xfrm>
            <a:off x="533520" y="1328760"/>
            <a:ext cx="1143000" cy="271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1665360" y="3581280"/>
            <a:ext cx="1143000" cy="271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114800" y="2011320"/>
            <a:ext cx="3962520" cy="3409920"/>
          </a:xfrm>
          <a:prstGeom prst="rect">
            <a:avLst/>
          </a:prstGeom>
          <a:ln w="0">
            <a:noFill/>
          </a:ln>
        </p:spPr>
      </p:pic>
      <p:sp>
        <p:nvSpPr>
          <p:cNvPr id="133" name="Oval 9"/>
          <p:cNvSpPr/>
          <p:nvPr/>
        </p:nvSpPr>
        <p:spPr>
          <a:xfrm>
            <a:off x="6781680" y="3157560"/>
            <a:ext cx="1143000" cy="271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6400800" y="5029200"/>
            <a:ext cx="865080" cy="271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98E7-3FF7-45F9-8274-52CCAE57B58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About OAM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To simplify creation and adoption of a semantic web applic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Provides common application templates that can process the user's published RDF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User's programming skill is NOT REQUIRED in building a prototype ap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Supports both RDF data publishing from databases and building ontology-based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rdia New"/>
              </a:rPr>
              <a:t>Semantic search, Recommender system applic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9C75-5972-4931-A5F1-575FF60776C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art Apache Tomc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50520" cy="1104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1413000" y="2971800"/>
            <a:ext cx="713880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Oval 3"/>
          <p:cNvSpPr/>
          <p:nvPr/>
        </p:nvSpPr>
        <p:spPr>
          <a:xfrm>
            <a:off x="1143000" y="3809880"/>
            <a:ext cx="190512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457200" y="1771560"/>
            <a:ext cx="590220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F68B-3253-4278-97D7-DF08DBC8560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art Mapping Web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Firefox or Chrome http://localhost:8080/config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6524640" cy="420048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F5E1-C9FF-4829-9D4F-93007C984C7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DB and Ontology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143000" y="1743120"/>
            <a:ext cx="6862680" cy="427680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305E-3E82-4B94-AB76-90B55EDC0E2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Class - Table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rcRect l="0" t="0" r="0" b="33445"/>
          <a:stretch/>
        </p:blipFill>
        <p:spPr>
          <a:xfrm>
            <a:off x="1041480" y="1295280"/>
            <a:ext cx="7134120" cy="171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7115400" cy="3371760"/>
          </a:xfrm>
          <a:prstGeom prst="rect">
            <a:avLst/>
          </a:prstGeom>
          <a:ln w="0">
            <a:noFill/>
          </a:ln>
        </p:spPr>
      </p:pic>
      <p:sp>
        <p:nvSpPr>
          <p:cNvPr id="153" name="Oval 3"/>
          <p:cNvSpPr/>
          <p:nvPr/>
        </p:nvSpPr>
        <p:spPr>
          <a:xfrm>
            <a:off x="6629400" y="2154240"/>
            <a:ext cx="1552680" cy="43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5715000" y="6019920"/>
            <a:ext cx="9144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4457-BE7B-499D-AFD1-B448BEC8A82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List of Class – Table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110440" cy="464796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7467480" y="2514600"/>
            <a:ext cx="4572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A59A-B826-4B2E-9343-4F051DE2AB2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Property – Column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954000" y="1243080"/>
            <a:ext cx="7305840" cy="2390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rcRect l="0" t="8039" r="0" b="0"/>
          <a:stretch/>
        </p:blipFill>
        <p:spPr>
          <a:xfrm>
            <a:off x="3276720" y="3200400"/>
            <a:ext cx="5419440" cy="3170160"/>
          </a:xfrm>
          <a:prstGeom prst="rect">
            <a:avLst/>
          </a:prstGeom>
          <a:ln w="0">
            <a:noFill/>
          </a:ln>
        </p:spPr>
      </p:pic>
      <p:sp>
        <p:nvSpPr>
          <p:cNvPr id="163" name="Oval 5"/>
          <p:cNvSpPr/>
          <p:nvPr/>
        </p:nvSpPr>
        <p:spPr>
          <a:xfrm>
            <a:off x="6629400" y="2306520"/>
            <a:ext cx="1552680" cy="43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C9C3-701E-4F77-86EE-D34846398FC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Datatype Property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918480" cy="4495680"/>
          </a:xfrm>
          <a:prstGeom prst="rect">
            <a:avLst/>
          </a:prstGeom>
          <a:ln w="0">
            <a:noFill/>
          </a:ln>
        </p:spPr>
      </p:pic>
      <p:sp>
        <p:nvSpPr>
          <p:cNvPr id="167" name="Oval 4"/>
          <p:cNvSpPr/>
          <p:nvPr/>
        </p:nvSpPr>
        <p:spPr>
          <a:xfrm>
            <a:off x="1981080" y="2001960"/>
            <a:ext cx="2667240" cy="436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3127-22F7-4A5A-BE58-9F4771CD14D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Object Property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924440"/>
          </a:xfrm>
          <a:prstGeom prst="rect">
            <a:avLst/>
          </a:prstGeom>
          <a:ln w="0">
            <a:noFill/>
          </a:ln>
        </p:spPr>
      </p:pic>
      <p:sp>
        <p:nvSpPr>
          <p:cNvPr id="171" name="Oval 5"/>
          <p:cNvSpPr/>
          <p:nvPr/>
        </p:nvSpPr>
        <p:spPr>
          <a:xfrm>
            <a:off x="4495680" y="1447920"/>
            <a:ext cx="2667240" cy="436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15FC-9450-40A2-877B-124EF974B35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List of Property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45680" cy="335304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E5A9-6134-4807-AB0F-D8BAC880F9D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Vocabulary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110440" cy="4647960"/>
          </a:xfrm>
          <a:prstGeom prst="rect">
            <a:avLst/>
          </a:prstGeom>
          <a:ln w="0">
            <a:noFill/>
          </a:ln>
        </p:spPr>
      </p:pic>
      <p:sp>
        <p:nvSpPr>
          <p:cNvPr id="178" name="Oval 4"/>
          <p:cNvSpPr/>
          <p:nvPr/>
        </p:nvSpPr>
        <p:spPr>
          <a:xfrm>
            <a:off x="7543800" y="3352680"/>
            <a:ext cx="45720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4DA0-AA78-499A-A32D-60A970575F5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oftware used by and bundled with OAM Framework user’s pack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Apache Jena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ea typeface="Cordia New"/>
                <a:hlinkClick r:id="rId1"/>
              </a:rPr>
              <a:t>http://jena.apache.org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D2RQ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ea typeface="Cordia New"/>
                <a:hlinkClick r:id="rId2"/>
              </a:rPr>
              <a:t>http://d2rq.org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Hozo ontology editor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ea typeface="Cordia New"/>
                <a:hlinkClick r:id="rId3"/>
              </a:rPr>
              <a:t>http://www.hozo.jp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Apache Tomcat (http://tomcat.apache.org/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61DF-8AA3-4E05-92BE-60095175F6A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85800" y="53341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t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AM framework was originally developed as a companion application framework for OWL ontologies developed using Hozo ontology editor. It also works with OWL ontologies created using Protege 4.x Ontology Editor (although with some limitation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List of Vocabulary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5162400" cy="486720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ADEA-BC0A-479F-8855-7BA56080F2A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Vocabulary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324560" cy="1905120"/>
          </a:xfrm>
          <a:prstGeom prst="rect">
            <a:avLst/>
          </a:prstGeom>
          <a:ln w="0">
            <a:noFill/>
          </a:ln>
        </p:spPr>
      </p:pic>
      <p:sp>
        <p:nvSpPr>
          <p:cNvPr id="185" name="Oval 4"/>
          <p:cNvSpPr/>
          <p:nvPr/>
        </p:nvSpPr>
        <p:spPr>
          <a:xfrm>
            <a:off x="6400800" y="2743200"/>
            <a:ext cx="1523880" cy="43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1676520" y="3317760"/>
            <a:ext cx="6553080" cy="3276720"/>
          </a:xfrm>
          <a:prstGeom prst="rect">
            <a:avLst/>
          </a:prstGeom>
          <a:ln w="0">
            <a:noFill/>
          </a:ln>
        </p:spPr>
      </p:pic>
      <p:sp>
        <p:nvSpPr>
          <p:cNvPr id="18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BD0D-A723-4BA3-8194-FF4960D4D4B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ave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747720" y="1295280"/>
            <a:ext cx="7620120" cy="5135760"/>
          </a:xfrm>
          <a:prstGeom prst="rect">
            <a:avLst/>
          </a:prstGeom>
          <a:ln w="0">
            <a:noFill/>
          </a:ln>
        </p:spPr>
      </p:pic>
      <p:sp>
        <p:nvSpPr>
          <p:cNvPr id="190" name="Oval 5"/>
          <p:cNvSpPr/>
          <p:nvPr/>
        </p:nvSpPr>
        <p:spPr>
          <a:xfrm>
            <a:off x="3781440" y="3071880"/>
            <a:ext cx="3381480" cy="814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8"/>
          <p:cNvSpPr/>
          <p:nvPr/>
        </p:nvSpPr>
        <p:spPr>
          <a:xfrm>
            <a:off x="838080" y="3378240"/>
            <a:ext cx="1371600" cy="203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95F3-E4CD-4D96-81DD-E0070A71616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Create/ Update RDF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209600" y="1928880"/>
            <a:ext cx="6724800" cy="3000240"/>
          </a:xfrm>
          <a:prstGeom prst="rect">
            <a:avLst/>
          </a:prstGeom>
          <a:ln w="0">
            <a:noFill/>
          </a:ln>
        </p:spPr>
      </p:pic>
      <p:sp>
        <p:nvSpPr>
          <p:cNvPr id="195" name="Oval 4"/>
          <p:cNvSpPr/>
          <p:nvPr/>
        </p:nvSpPr>
        <p:spPr>
          <a:xfrm>
            <a:off x="3781440" y="3962520"/>
            <a:ext cx="3381480" cy="814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0962-9721-48CB-9EE3-851D7EEA4F6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</a:t>
            </a:r>
            <a:r>
              <a:rPr b="0" lang="th-TH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4/5: Search Application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Application Conf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62120" y="1414440"/>
            <a:ext cx="7913520" cy="4681440"/>
          </a:xfrm>
          <a:prstGeom prst="rect">
            <a:avLst/>
          </a:prstGeom>
          <a:ln w="0">
            <a:noFill/>
          </a:ln>
        </p:spPr>
      </p:pic>
      <p:sp>
        <p:nvSpPr>
          <p:cNvPr id="201" name="Oval 6"/>
          <p:cNvSpPr/>
          <p:nvPr/>
        </p:nvSpPr>
        <p:spPr>
          <a:xfrm>
            <a:off x="7238880" y="4214880"/>
            <a:ext cx="762120" cy="509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492F-3F4D-44FB-9EF1-3124EC98291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909800" y="2695680"/>
            <a:ext cx="5324400" cy="41623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earch Prope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Properties that are allowed in Search Cond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1523880" y="2895480"/>
            <a:ext cx="2362320" cy="3429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1EEF-E99F-4F65-8E20-2904AA67AEA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2066760" y="2438280"/>
            <a:ext cx="5324760" cy="41626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Display Prope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Properties that are allowed to display search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4800600" y="2743200"/>
            <a:ext cx="2362320" cy="3352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Oval 5"/>
          <p:cNvSpPr/>
          <p:nvPr/>
        </p:nvSpPr>
        <p:spPr>
          <a:xfrm>
            <a:off x="6095880" y="6095880"/>
            <a:ext cx="1295640" cy="387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6553080" y="3886200"/>
            <a:ext cx="685800" cy="387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013B-19CA-40D1-A4AD-5177131D766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nge Search/Display Proper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rcRect l="0" t="53115" r="0" b="0"/>
          <a:stretch/>
        </p:blipFill>
        <p:spPr>
          <a:xfrm>
            <a:off x="838080" y="1447920"/>
            <a:ext cx="7894800" cy="3809880"/>
          </a:xfrm>
          <a:prstGeom prst="rect">
            <a:avLst/>
          </a:prstGeom>
          <a:ln w="0">
            <a:noFill/>
          </a:ln>
        </p:spPr>
      </p:pic>
      <p:sp>
        <p:nvSpPr>
          <p:cNvPr id="21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3E82-9468-4B84-82B8-1B64A9A98A8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ave Configu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10280" cy="4981680"/>
          </a:xfrm>
          <a:prstGeom prst="rect">
            <a:avLst/>
          </a:prstGeom>
          <a:ln w="0">
            <a:noFill/>
          </a:ln>
        </p:spPr>
      </p:pic>
      <p:sp>
        <p:nvSpPr>
          <p:cNvPr id="220" name="Oval 4"/>
          <p:cNvSpPr/>
          <p:nvPr/>
        </p:nvSpPr>
        <p:spPr>
          <a:xfrm flipV="1">
            <a:off x="3429000" y="2361960"/>
            <a:ext cx="3657600" cy="838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7"/>
          <p:cNvSpPr/>
          <p:nvPr/>
        </p:nvSpPr>
        <p:spPr>
          <a:xfrm flipV="1">
            <a:off x="873000" y="3885480"/>
            <a:ext cx="156528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ABC0-AB3B-4CFF-B145-54211042029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AM Tutorial: Part 1 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base to Ontology Mapp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&amp; Semantic Search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mantic KM Tools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rdia New"/>
                <a:ea typeface="Cordia New"/>
              </a:rPr>
              <a:t>LST Lab, NECT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5/5: Start Search Ap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 Semantic Search Web Interf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URL: http://localhost:8080/search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762120" y="1940040"/>
            <a:ext cx="7924680" cy="3962160"/>
          </a:xfrm>
          <a:prstGeom prst="rect">
            <a:avLst/>
          </a:prstGeom>
          <a:ln w="0">
            <a:noFill/>
          </a:ln>
        </p:spPr>
      </p:pic>
      <p:sp>
        <p:nvSpPr>
          <p:cNvPr id="2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C758-372F-4320-BEA2-8DCE157C0B3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3" descr=""/>
          <p:cNvPicPr/>
          <p:nvPr/>
        </p:nvPicPr>
        <p:blipFill>
          <a:blip r:embed="rId1"/>
          <a:srcRect l="0" t="0" r="8154" b="0"/>
          <a:stretch/>
        </p:blipFill>
        <p:spPr>
          <a:xfrm>
            <a:off x="155520" y="2057400"/>
            <a:ext cx="8988480" cy="3578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earch Conditions and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4"/>
          <p:cNvSpPr/>
          <p:nvPr/>
        </p:nvSpPr>
        <p:spPr>
          <a:xfrm flipV="1">
            <a:off x="990720" y="2437560"/>
            <a:ext cx="156528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Oval 5"/>
          <p:cNvSpPr/>
          <p:nvPr/>
        </p:nvSpPr>
        <p:spPr>
          <a:xfrm flipV="1">
            <a:off x="208080" y="2971080"/>
            <a:ext cx="156528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6"/>
          <p:cNvSpPr/>
          <p:nvPr/>
        </p:nvSpPr>
        <p:spPr>
          <a:xfrm flipV="1">
            <a:off x="155520" y="3656520"/>
            <a:ext cx="8839080" cy="826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7"/>
          <p:cNvSpPr/>
          <p:nvPr/>
        </p:nvSpPr>
        <p:spPr>
          <a:xfrm flipV="1">
            <a:off x="76320" y="2842200"/>
            <a:ext cx="5711760" cy="662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2666880" y="228600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Class to sear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5788080" y="297180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Search condi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0"/>
          <p:cNvSpPr/>
          <p:nvPr/>
        </p:nvSpPr>
        <p:spPr>
          <a:xfrm>
            <a:off x="7086600" y="331956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Display proper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1"/>
          <p:cNvSpPr/>
          <p:nvPr/>
        </p:nvSpPr>
        <p:spPr>
          <a:xfrm>
            <a:off x="1596960" y="275436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Search proper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B641-6352-4FE0-BD0E-C19C8AB28D1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New Search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14440" y="117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URL: http://localhost:8080/searching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4551-2EFE-4DF1-A0CC-50079F2030B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878040" y="1789200"/>
            <a:ext cx="7500960" cy="4572000"/>
            <a:chOff x="878040" y="1789200"/>
            <a:chExt cx="7500960" cy="4572000"/>
          </a:xfrm>
        </p:grpSpPr>
        <p:pic>
          <p:nvPicPr>
            <p:cNvPr id="244" name="Picture 5" descr=""/>
            <p:cNvPicPr/>
            <p:nvPr/>
          </p:nvPicPr>
          <p:blipFill>
            <a:blip r:embed="rId1"/>
            <a:srcRect l="0" t="0" r="0" b="2345"/>
            <a:stretch/>
          </p:blipFill>
          <p:spPr>
            <a:xfrm>
              <a:off x="902160" y="1789200"/>
              <a:ext cx="7381080" cy="4533120"/>
            </a:xfrm>
            <a:prstGeom prst="rect">
              <a:avLst/>
            </a:prstGeom>
            <a:ln w="9360">
              <a:solidFill>
                <a:srgbClr val="4f81bd"/>
              </a:solidFill>
              <a:round/>
            </a:ln>
          </p:spPr>
        </p:pic>
        <p:sp>
          <p:nvSpPr>
            <p:cNvPr id="245" name="Oval 6"/>
            <p:cNvSpPr/>
            <p:nvPr/>
          </p:nvSpPr>
          <p:spPr>
            <a:xfrm>
              <a:off x="878040" y="2336760"/>
              <a:ext cx="846000" cy="468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Text Box 20543"/>
            <p:cNvSpPr/>
            <p:nvPr/>
          </p:nvSpPr>
          <p:spPr>
            <a:xfrm>
              <a:off x="1636560" y="266868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H SarabunPSK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 Box 129"/>
            <p:cNvSpPr/>
            <p:nvPr/>
          </p:nvSpPr>
          <p:spPr>
            <a:xfrm>
              <a:off x="7201080" y="220824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H SarabunPSK"/>
                  <a:ea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Oval 9"/>
            <p:cNvSpPr/>
            <p:nvPr/>
          </p:nvSpPr>
          <p:spPr>
            <a:xfrm>
              <a:off x="7386840" y="2289240"/>
              <a:ext cx="904680" cy="468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Oval 10"/>
            <p:cNvSpPr/>
            <p:nvPr/>
          </p:nvSpPr>
          <p:spPr>
            <a:xfrm>
              <a:off x="7193160" y="3135240"/>
              <a:ext cx="1058760" cy="468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Oval 11"/>
            <p:cNvSpPr/>
            <p:nvPr/>
          </p:nvSpPr>
          <p:spPr>
            <a:xfrm>
              <a:off x="7709400" y="2820960"/>
              <a:ext cx="669600" cy="258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Oval 12"/>
            <p:cNvSpPr/>
            <p:nvPr/>
          </p:nvSpPr>
          <p:spPr>
            <a:xfrm>
              <a:off x="878040" y="6104160"/>
              <a:ext cx="1871640" cy="2570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 Box 20542"/>
            <p:cNvSpPr/>
            <p:nvPr/>
          </p:nvSpPr>
          <p:spPr>
            <a:xfrm>
              <a:off x="7588440" y="282096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H SarabunPSK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 Box 128"/>
            <p:cNvSpPr/>
            <p:nvPr/>
          </p:nvSpPr>
          <p:spPr>
            <a:xfrm>
              <a:off x="7064640" y="308772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H SarabunPSK"/>
                  <a:ea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Text Box 130"/>
            <p:cNvSpPr/>
            <p:nvPr/>
          </p:nvSpPr>
          <p:spPr>
            <a:xfrm>
              <a:off x="2749680" y="599148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TH SarabunPSK"/>
                  <a:ea typeface="Times New Roman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Ful Web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word search over datatype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rch property displayed as labels or property n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u language switch (English or Tha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V or</a:t>
            </a:r>
            <a:r>
              <a:rPr b="0" lang="th-TH" sz="3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SON ex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C7CD-C559-4068-970E-4E5427702F0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36680" y="218880"/>
            <a:ext cx="8229600" cy="81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Web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69B6-753E-47B9-8EA2-2C0C413BA42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302080" y="1143000"/>
            <a:ext cx="2775240" cy="1419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261" name="Picture 5" descr=""/>
          <p:cNvPicPr/>
          <p:nvPr/>
        </p:nvPicPr>
        <p:blipFill>
          <a:blip r:embed="rId2"/>
          <a:stretch/>
        </p:blipFill>
        <p:spPr>
          <a:xfrm>
            <a:off x="436680" y="1282680"/>
            <a:ext cx="42163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2" name="Oval 6"/>
          <p:cNvSpPr/>
          <p:nvPr/>
        </p:nvSpPr>
        <p:spPr>
          <a:xfrm>
            <a:off x="4191120" y="1380960"/>
            <a:ext cx="523800" cy="19872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3" name="Straight Arrow Connector 2"/>
          <p:cNvCxnSpPr>
            <a:stCxn id="262" idx="5"/>
            <a:endCxn id="260" idx="1"/>
          </p:cNvCxnSpPr>
          <p:nvPr/>
        </p:nvCxnSpPr>
        <p:spPr>
          <a:xfrm>
            <a:off x="4638240" y="1550880"/>
            <a:ext cx="664200" cy="302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264" name="Rectangle 4"/>
          <p:cNvSpPr/>
          <p:nvPr/>
        </p:nvSpPr>
        <p:spPr>
          <a:xfrm>
            <a:off x="642960" y="2766960"/>
            <a:ext cx="762012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H SarabunPSK"/>
                <a:ea typeface="Times New Roman"/>
              </a:rPr>
              <a:t>http://localhost: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H SarabunPSK"/>
                <a:ea typeface="Cordia New"/>
              </a:rPr>
              <a:t>8080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H SarabunPSK"/>
                <a:ea typeface="Cordia New"/>
              </a:rPr>
              <a:t>searching/api/dataset/query?dsname=&amp;path=Player&amp;property=has_country&amp;operator=ISA&amp;value=&amp;valueRelation=european&amp;property=&amp;value=&amp;limit=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H SarabunPSK"/>
                <a:ea typeface="Cordia New"/>
              </a:rPr>
              <a:t>100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H SarabunPSK"/>
                <a:ea typeface="Cordia New"/>
              </a:rPr>
              <a:t>&amp;offset=</a:t>
            </a:r>
            <a:r>
              <a:rPr b="0" lang="th-TH" sz="1800" spc="-1" strike="noStrike" u="sng">
                <a:solidFill>
                  <a:srgbClr val="0000ff"/>
                </a:solidFill>
                <a:uFillTx/>
                <a:latin typeface="TH SarabunPSK"/>
                <a:ea typeface="Cordia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Oval 12"/>
          <p:cNvSpPr/>
          <p:nvPr/>
        </p:nvSpPr>
        <p:spPr>
          <a:xfrm>
            <a:off x="5343480" y="1587600"/>
            <a:ext cx="523800" cy="19836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Straight Arrow Connector 13"/>
          <p:cNvCxnSpPr/>
          <p:nvPr/>
        </p:nvCxnSpPr>
        <p:spPr>
          <a:xfrm flipH="1">
            <a:off x="5105160" y="2190240"/>
            <a:ext cx="381600" cy="669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</p:cxnSp>
      <p:pic>
        <p:nvPicPr>
          <p:cNvPr id="267" name="Picture 16" descr=""/>
          <p:cNvPicPr/>
          <p:nvPr/>
        </p:nvPicPr>
        <p:blipFill>
          <a:blip r:embed="rId3"/>
          <a:srcRect l="0" t="0" r="0" b="4557"/>
          <a:stretch/>
        </p:blipFill>
        <p:spPr>
          <a:xfrm>
            <a:off x="1484280" y="3463920"/>
            <a:ext cx="5205600" cy="30002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268" name="TextBox 15"/>
          <p:cNvSpPr/>
          <p:nvPr/>
        </p:nvSpPr>
        <p:spPr>
          <a:xfrm>
            <a:off x="7238880" y="3135240"/>
            <a:ext cx="1600200" cy="368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est UR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21"/>
          <p:cNvSpPr/>
          <p:nvPr/>
        </p:nvSpPr>
        <p:spPr>
          <a:xfrm>
            <a:off x="4191120" y="5232240"/>
            <a:ext cx="2214360" cy="368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 in JSON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AM Tutorial: Part 2 - Recommender Application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476360" y="4508280"/>
            <a:ext cx="640080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mantic KM Tools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rdia New"/>
                <a:ea typeface="Cordia New"/>
              </a:rPr>
              <a:t>LST Lab, NECT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6-Ste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Prepare OWL ontology and update RDF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Recommender Application Config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Create rules in Microsoft Exc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Mapping rules with ont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Apply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Start search application to view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1/6: Prepare OWL ontology and update RDF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8286480" cy="428004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 recommendation class in ontolo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4"/>
          <p:cNvSpPr/>
          <p:nvPr/>
        </p:nvSpPr>
        <p:spPr>
          <a:xfrm>
            <a:off x="5076720" y="3933720"/>
            <a:ext cx="3821040" cy="57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7"/>
          <p:cNvSpPr/>
          <p:nvPr/>
        </p:nvSpPr>
        <p:spPr>
          <a:xfrm>
            <a:off x="2771640" y="3757680"/>
            <a:ext cx="2448000" cy="2263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5219640" y="5094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8028000" y="3689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Required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Java Development Kit (JDK)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AppSer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Navicat for MySQ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Notepad++ or EditPl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Mozilla Firefox or Google Chrome Web Brow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OpenOffice Calc or Microsoft Exc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D517-F796-4669-9F0F-40B74659C93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port OWL Ontology from</a:t>
            </a:r>
            <a:r>
              <a:rPr b="0" lang="th-TH" sz="36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zo Ontology Edit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34356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5" name="Oval 3"/>
          <p:cNvSpPr/>
          <p:nvPr/>
        </p:nvSpPr>
        <p:spPr>
          <a:xfrm>
            <a:off x="1219320" y="3809880"/>
            <a:ext cx="9903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3809880" y="5029200"/>
            <a:ext cx="9907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738360" y="1600200"/>
            <a:ext cx="9903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B8BA-7E66-4D42-A9AB-A846D8987CC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000000"/>
              </a:solidFill>
              <a:latin typeface="Calibri"/>
              <a:ea typeface="Angsana New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7086600" cy="5719680"/>
          </a:xfrm>
          <a:prstGeom prst="rect">
            <a:avLst/>
          </a:prstGeom>
          <a:ln w="0">
            <a:noFill/>
          </a:ln>
        </p:spPr>
      </p:pic>
      <p:sp>
        <p:nvSpPr>
          <p:cNvPr id="291" name="Oval 3"/>
          <p:cNvSpPr/>
          <p:nvPr/>
        </p:nvSpPr>
        <p:spPr>
          <a:xfrm>
            <a:off x="4782960" y="5410080"/>
            <a:ext cx="1600200" cy="766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2DC5-034E-45C6-9080-DEE7F45E5C3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art Mapping Web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Firefox or Chrome http://localhost:8080/config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6524640" cy="4200480"/>
          </a:xfrm>
          <a:prstGeom prst="rect">
            <a:avLst/>
          </a:prstGeom>
          <a:ln w="0">
            <a:noFill/>
          </a:ln>
        </p:spPr>
      </p:pic>
      <p:sp>
        <p:nvSpPr>
          <p:cNvPr id="2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7C0D-7307-4615-9B63-1A767C15D6C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Update New Ontology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EC60-8898-45D6-AA62-4790D5D9165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395280" y="1635120"/>
            <a:ext cx="8512200" cy="4314960"/>
          </a:xfrm>
          <a:prstGeom prst="rect">
            <a:avLst/>
          </a:prstGeom>
          <a:ln w="0">
            <a:noFill/>
          </a:ln>
        </p:spPr>
      </p:pic>
      <p:sp>
        <p:nvSpPr>
          <p:cNvPr id="300" name="Oval 1"/>
          <p:cNvSpPr/>
          <p:nvPr/>
        </p:nvSpPr>
        <p:spPr>
          <a:xfrm>
            <a:off x="395280" y="2637000"/>
            <a:ext cx="647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Oval 14"/>
          <p:cNvSpPr/>
          <p:nvPr/>
        </p:nvSpPr>
        <p:spPr>
          <a:xfrm>
            <a:off x="6875640" y="4508640"/>
            <a:ext cx="93636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Oval 15"/>
          <p:cNvSpPr/>
          <p:nvPr/>
        </p:nvSpPr>
        <p:spPr>
          <a:xfrm>
            <a:off x="5219640" y="5445000"/>
            <a:ext cx="1224000" cy="2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ave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747720" y="1295280"/>
            <a:ext cx="7620120" cy="5135760"/>
          </a:xfrm>
          <a:prstGeom prst="rect">
            <a:avLst/>
          </a:prstGeom>
          <a:ln w="0">
            <a:noFill/>
          </a:ln>
        </p:spPr>
      </p:pic>
      <p:sp>
        <p:nvSpPr>
          <p:cNvPr id="305" name="Oval 5"/>
          <p:cNvSpPr/>
          <p:nvPr/>
        </p:nvSpPr>
        <p:spPr>
          <a:xfrm>
            <a:off x="3781440" y="3071880"/>
            <a:ext cx="3381480" cy="814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Oval 8"/>
          <p:cNvSpPr/>
          <p:nvPr/>
        </p:nvSpPr>
        <p:spPr>
          <a:xfrm>
            <a:off x="838080" y="3378240"/>
            <a:ext cx="1371600" cy="203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6EEA-8CD6-4927-A2EE-85E3B78219F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Update RDF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209600" y="1928880"/>
            <a:ext cx="6724800" cy="3000240"/>
          </a:xfrm>
          <a:prstGeom prst="rect">
            <a:avLst/>
          </a:prstGeom>
          <a:ln w="0">
            <a:noFill/>
          </a:ln>
        </p:spPr>
      </p:pic>
      <p:sp>
        <p:nvSpPr>
          <p:cNvPr id="310" name="Oval 4"/>
          <p:cNvSpPr/>
          <p:nvPr/>
        </p:nvSpPr>
        <p:spPr>
          <a:xfrm>
            <a:off x="3781440" y="3962520"/>
            <a:ext cx="3381480" cy="814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943A-539B-4580-A218-39A8DF5C806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1835280" y="5661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** Please restart Tomcat after this step.*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2/6: Recommender Application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 a new class in Application Confi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6" name="Group 3"/>
          <p:cNvGrpSpPr/>
          <p:nvPr/>
        </p:nvGrpSpPr>
        <p:grpSpPr>
          <a:xfrm>
            <a:off x="1332000" y="1413000"/>
            <a:ext cx="6553080" cy="4817880"/>
            <a:chOff x="1332000" y="1413000"/>
            <a:chExt cx="6553080" cy="4817880"/>
          </a:xfrm>
        </p:grpSpPr>
        <p:grpSp>
          <p:nvGrpSpPr>
            <p:cNvPr id="317" name="Group 4"/>
            <p:cNvGrpSpPr/>
            <p:nvPr/>
          </p:nvGrpSpPr>
          <p:grpSpPr>
            <a:xfrm>
              <a:off x="1332000" y="1413000"/>
              <a:ext cx="6553080" cy="3601440"/>
              <a:chOff x="1332000" y="1413000"/>
              <a:chExt cx="6553080" cy="3601440"/>
            </a:xfrm>
          </p:grpSpPr>
          <p:pic>
            <p:nvPicPr>
              <p:cNvPr id="318" name="Picture 8" descr="E:\PHUNG\Nectec's Ontology Application Development plateform\SKM_DATA\data v2\images\1.png"/>
              <p:cNvPicPr/>
              <p:nvPr/>
            </p:nvPicPr>
            <p:blipFill>
              <a:blip r:embed="rId1"/>
              <a:stretch/>
            </p:blipFill>
            <p:spPr>
              <a:xfrm>
                <a:off x="1332000" y="1413000"/>
                <a:ext cx="6553080" cy="360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Oval 9"/>
              <p:cNvSpPr/>
              <p:nvPr/>
            </p:nvSpPr>
            <p:spPr>
              <a:xfrm>
                <a:off x="1407960" y="4048200"/>
                <a:ext cx="618840" cy="19980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Oval 10"/>
              <p:cNvSpPr/>
              <p:nvPr/>
            </p:nvSpPr>
            <p:spPr>
              <a:xfrm>
                <a:off x="6086520" y="4624560"/>
                <a:ext cx="1260360" cy="3855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21" name="Picture 5" descr="E:\PHUNG\Nectec's Ontology Application Development plateform\SKM_DATA\data v2\images\aa2.png"/>
            <p:cNvPicPr/>
            <p:nvPr/>
          </p:nvPicPr>
          <p:blipFill>
            <a:blip r:embed="rId2"/>
            <a:stretch/>
          </p:blipFill>
          <p:spPr>
            <a:xfrm>
              <a:off x="3450240" y="5213520"/>
              <a:ext cx="373752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36896"/>
            <p:cNvSpPr/>
            <p:nvPr/>
          </p:nvSpPr>
          <p:spPr>
            <a:xfrm>
              <a:off x="4762440" y="5456160"/>
              <a:ext cx="1420560" cy="17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yer_Recommendation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Oval 7"/>
            <p:cNvSpPr/>
            <p:nvPr/>
          </p:nvSpPr>
          <p:spPr>
            <a:xfrm>
              <a:off x="4525920" y="5840640"/>
              <a:ext cx="850680" cy="295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Define a Recommendation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Group 16"/>
          <p:cNvGrpSpPr/>
          <p:nvPr/>
        </p:nvGrpSpPr>
        <p:grpSpPr>
          <a:xfrm>
            <a:off x="755640" y="1557360"/>
            <a:ext cx="7034400" cy="4630680"/>
            <a:chOff x="755640" y="1557360"/>
            <a:chExt cx="7034400" cy="4630680"/>
          </a:xfrm>
        </p:grpSpPr>
        <p:grpSp>
          <p:nvGrpSpPr>
            <p:cNvPr id="326" name="Group 17"/>
            <p:cNvGrpSpPr/>
            <p:nvPr/>
          </p:nvGrpSpPr>
          <p:grpSpPr>
            <a:xfrm>
              <a:off x="755640" y="1557360"/>
              <a:ext cx="7034400" cy="4524480"/>
              <a:chOff x="755640" y="1557360"/>
              <a:chExt cx="7034400" cy="4524480"/>
            </a:xfrm>
          </p:grpSpPr>
          <p:pic>
            <p:nvPicPr>
              <p:cNvPr id="327" name="Picture 20" descr="E:\PHUNG\Nectec's Ontology Application Development plateform\SKM_DATA\data v2\images\normal classs.png"/>
              <p:cNvPicPr/>
              <p:nvPr/>
            </p:nvPicPr>
            <p:blipFill>
              <a:blip r:embed="rId1"/>
              <a:stretch/>
            </p:blipFill>
            <p:spPr>
              <a:xfrm>
                <a:off x="755640" y="1557360"/>
                <a:ext cx="7034400" cy="452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Oval 21"/>
              <p:cNvSpPr/>
              <p:nvPr/>
            </p:nvSpPr>
            <p:spPr>
              <a:xfrm>
                <a:off x="6629760" y="5186520"/>
                <a:ext cx="404640" cy="32832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29" name="Picture 18" descr=""/>
            <p:cNvPicPr/>
            <p:nvPr/>
          </p:nvPicPr>
          <p:blipFill>
            <a:blip r:embed="rId2"/>
            <a:stretch/>
          </p:blipFill>
          <p:spPr>
            <a:xfrm>
              <a:off x="1358640" y="5558760"/>
              <a:ext cx="4148280" cy="62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Down Arrow 19"/>
            <p:cNvSpPr/>
            <p:nvPr/>
          </p:nvSpPr>
          <p:spPr>
            <a:xfrm rot="4297800">
              <a:off x="5563080" y="5363280"/>
              <a:ext cx="271440" cy="625320"/>
            </a:xfrm>
            <a:prstGeom prst="downArrow">
              <a:avLst>
                <a:gd name="adj1" fmla="val 50000"/>
                <a:gd name="adj2" fmla="val 49999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1" name="TextBox 9"/>
          <p:cNvSpPr/>
          <p:nvPr/>
        </p:nvSpPr>
        <p:spPr>
          <a:xfrm>
            <a:off x="7284960" y="4724280"/>
            <a:ext cx="1800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Click to define that this is a recommendation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2" name="Straight Arrow Connector 23"/>
          <p:cNvCxnSpPr>
            <a:stCxn id="331" idx="1"/>
          </p:cNvCxnSpPr>
          <p:nvPr/>
        </p:nvCxnSpPr>
        <p:spPr>
          <a:xfrm flipH="1">
            <a:off x="7031880" y="5325840"/>
            <a:ext cx="253080" cy="1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ave Configu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10280" cy="4981680"/>
          </a:xfrm>
          <a:prstGeom prst="rect">
            <a:avLst/>
          </a:prstGeom>
          <a:ln w="0">
            <a:noFill/>
          </a:ln>
        </p:spPr>
      </p:pic>
      <p:sp>
        <p:nvSpPr>
          <p:cNvPr id="335" name="Oval 4"/>
          <p:cNvSpPr/>
          <p:nvPr/>
        </p:nvSpPr>
        <p:spPr>
          <a:xfrm flipV="1">
            <a:off x="3429000" y="2361960"/>
            <a:ext cx="3657600" cy="838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Oval 7"/>
          <p:cNvSpPr/>
          <p:nvPr/>
        </p:nvSpPr>
        <p:spPr>
          <a:xfrm flipV="1">
            <a:off x="873000" y="3885480"/>
            <a:ext cx="156528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9B75-FFA4-4C4D-A580-1E3823BECAC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5-Ste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paring</a:t>
            </a:r>
            <a:r>
              <a:rPr b="0" lang="th-TH" sz="3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WL Ontology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Database in MySQ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base to Ontology Mapping Config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rch Application Config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Search Ap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91D8-B4CE-46FB-93F3-BB05E822E33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3/6: Create rules in Microsoft Ex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Excel to create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need to learn new t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create a large number of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 can use any vocabul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0BF1-F369-4279-AED1-ACBBC928E3E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-Ste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headers for criteria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headers for criteria 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rules in table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08D4-6F6D-4770-8B2A-0E32DE5F8A6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e headers for criteria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D90E-C790-440F-B075-5D35F8BCAC2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1600200" y="3809880"/>
            <a:ext cx="5715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riteria name for ‘Football Club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0000"/>
                </a:solidFill>
                <a:latin typeface="Calibri"/>
              </a:rPr>
              <a:t>สโมสรอยู่ในประเทศ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(club countr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Criteria name for ‘Player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7030a0"/>
                </a:solidFill>
                <a:latin typeface="Calibri"/>
              </a:rPr>
              <a:t>อายุ </a:t>
            </a:r>
            <a:r>
              <a:rPr b="0" lang="en-US" sz="2000" spc="-1" strike="noStrike">
                <a:solidFill>
                  <a:srgbClr val="7030a0"/>
                </a:solidFill>
                <a:latin typeface="Calibri"/>
              </a:rPr>
              <a:t>(player 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70c0"/>
                </a:solidFill>
                <a:latin typeface="Calibri"/>
              </a:rPr>
              <a:t>เล่นในประเทศ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(player’s club countr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" name="Group 1"/>
          <p:cNvGrpSpPr/>
          <p:nvPr/>
        </p:nvGrpSpPr>
        <p:grpSpPr>
          <a:xfrm>
            <a:off x="1574640" y="1814400"/>
            <a:ext cx="5996160" cy="1538280"/>
            <a:chOff x="1574640" y="1814400"/>
            <a:chExt cx="5996160" cy="1538280"/>
          </a:xfrm>
        </p:grpSpPr>
        <p:pic>
          <p:nvPicPr>
            <p:cNvPr id="350" name="Picture 3" descr=""/>
            <p:cNvPicPr/>
            <p:nvPr/>
          </p:nvPicPr>
          <p:blipFill>
            <a:blip r:embed="rId1"/>
            <a:stretch/>
          </p:blipFill>
          <p:spPr>
            <a:xfrm>
              <a:off x="1574640" y="1814400"/>
              <a:ext cx="5996160" cy="1538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51" name="Rectangle 4"/>
            <p:cNvSpPr/>
            <p:nvPr/>
          </p:nvSpPr>
          <p:spPr>
            <a:xfrm>
              <a:off x="1599840" y="2133360"/>
              <a:ext cx="209556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Rectangle 11"/>
            <p:cNvSpPr/>
            <p:nvPr/>
          </p:nvSpPr>
          <p:spPr>
            <a:xfrm>
              <a:off x="3733560" y="2128680"/>
              <a:ext cx="1257120" cy="380880"/>
            </a:xfrm>
            <a:prstGeom prst="rect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Rectangle 45"/>
            <p:cNvSpPr/>
            <p:nvPr/>
          </p:nvSpPr>
          <p:spPr>
            <a:xfrm>
              <a:off x="5029200" y="2128680"/>
              <a:ext cx="2362320" cy="380880"/>
            </a:xfrm>
            <a:prstGeom prst="rect">
              <a:avLst/>
            </a:pr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e headers for criteria r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5E3B-A5B5-4E10-9752-8C58DC4C5BA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5"/>
          <p:cNvSpPr/>
          <p:nvPr/>
        </p:nvSpPr>
        <p:spPr>
          <a:xfrm>
            <a:off x="1600200" y="3581280"/>
            <a:ext cx="685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Calibri"/>
              </a:rPr>
              <a:t>สโมสรอยู่ในประเทศ </a:t>
            </a:r>
            <a:r>
              <a:rPr b="1" lang="th-TH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lub countr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=&gt; </a:t>
            </a:r>
            <a:r>
              <a:rPr b="0" lang="en-US" sz="1800" spc="-1" strike="noStrike">
                <a:solidFill>
                  <a:srgbClr val="77933c"/>
                </a:solidFill>
                <a:latin typeface="Calibri"/>
              </a:rPr>
              <a:t>‘</a:t>
            </a:r>
            <a:r>
              <a:rPr b="0" lang="th-TH" sz="1800" spc="-1" strike="noStrike">
                <a:solidFill>
                  <a:srgbClr val="77933c"/>
                </a:solidFill>
                <a:latin typeface="Calibri"/>
              </a:rPr>
              <a:t>เอเชีย</a:t>
            </a:r>
            <a:r>
              <a:rPr b="0" lang="en-US" sz="1800" spc="-1" strike="noStrike">
                <a:solidFill>
                  <a:srgbClr val="77933c"/>
                </a:solidFill>
                <a:latin typeface="Calibri"/>
              </a:rPr>
              <a:t>’ </a:t>
            </a:r>
            <a:r>
              <a:rPr b="0" lang="en-US" sz="1800" spc="-1" strike="noStrike">
                <a:solidFill>
                  <a:srgbClr val="77933c"/>
                </a:solidFill>
                <a:latin typeface="Calibri"/>
              </a:rPr>
              <a:t>(Asia), ‘</a:t>
            </a:r>
            <a:r>
              <a:rPr b="0" lang="th-TH" sz="1800" spc="-1" strike="noStrike">
                <a:solidFill>
                  <a:srgbClr val="77933c"/>
                </a:solidFill>
                <a:latin typeface="Calibri"/>
              </a:rPr>
              <a:t>ยุโรป</a:t>
            </a:r>
            <a:r>
              <a:rPr b="0" lang="en-US" sz="1800" spc="-1" strike="noStrike">
                <a:solidFill>
                  <a:srgbClr val="77933c"/>
                </a:solidFill>
                <a:latin typeface="Calibri"/>
              </a:rPr>
              <a:t>’</a:t>
            </a:r>
            <a:r>
              <a:rPr b="0" lang="th-TH" sz="18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77933c"/>
                </a:solidFill>
                <a:latin typeface="Calibri"/>
              </a:rPr>
              <a:t>(Europ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70c0"/>
                </a:solidFill>
                <a:latin typeface="Calibri"/>
              </a:rPr>
              <a:t>อายุ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(player ag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=&gt;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‘&lt;23’, ‘&gt;=23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70c0"/>
                </a:solidFill>
                <a:latin typeface="Calibri"/>
              </a:rPr>
              <a:t>เล่นในประเทศ 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(player’s club countr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=&gt; </a:t>
            </a:r>
            <a:r>
              <a:rPr b="0" lang="th-TH" sz="1800" spc="-1" strike="noStrike">
                <a:solidFill>
                  <a:srgbClr val="e46c0a"/>
                </a:solidFill>
                <a:latin typeface="Calibri"/>
              </a:rPr>
              <a:t>อเมริกาใต้ 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(South America), </a:t>
            </a:r>
            <a:r>
              <a:rPr b="0" lang="th-TH" sz="1800" spc="-1" strike="noStrike">
                <a:solidFill>
                  <a:srgbClr val="e46c0a"/>
                </a:solidFill>
                <a:latin typeface="Calibri"/>
              </a:rPr>
              <a:t>ยุโรป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(Europe), </a:t>
            </a:r>
            <a:r>
              <a:rPr b="0" lang="th-TH" sz="1800" spc="-1" strike="noStrike">
                <a:solidFill>
                  <a:srgbClr val="e46c0a"/>
                </a:solidFill>
                <a:latin typeface="Calibri"/>
              </a:rPr>
              <a:t>เอเชีย 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(Asi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7" name="Group 1"/>
          <p:cNvGrpSpPr/>
          <p:nvPr/>
        </p:nvGrpSpPr>
        <p:grpSpPr>
          <a:xfrm>
            <a:off x="1574640" y="1814400"/>
            <a:ext cx="5996160" cy="1538280"/>
            <a:chOff x="1574640" y="1814400"/>
            <a:chExt cx="5996160" cy="1538280"/>
          </a:xfrm>
        </p:grpSpPr>
        <p:pic>
          <p:nvPicPr>
            <p:cNvPr id="358" name="Picture 3" descr=""/>
            <p:cNvPicPr/>
            <p:nvPr/>
          </p:nvPicPr>
          <p:blipFill>
            <a:blip r:embed="rId1"/>
            <a:stretch/>
          </p:blipFill>
          <p:spPr>
            <a:xfrm>
              <a:off x="1574640" y="1814400"/>
              <a:ext cx="5996160" cy="1538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59" name="Rectangle 4"/>
            <p:cNvSpPr/>
            <p:nvPr/>
          </p:nvSpPr>
          <p:spPr>
            <a:xfrm>
              <a:off x="1599840" y="2544480"/>
              <a:ext cx="2095560" cy="19836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Rectangle 11"/>
            <p:cNvSpPr/>
            <p:nvPr/>
          </p:nvSpPr>
          <p:spPr>
            <a:xfrm>
              <a:off x="3695400" y="2544480"/>
              <a:ext cx="1333440" cy="198360"/>
            </a:xfrm>
            <a:prstGeom prst="rect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Rectangle 10"/>
            <p:cNvSpPr/>
            <p:nvPr/>
          </p:nvSpPr>
          <p:spPr>
            <a:xfrm>
              <a:off x="5029200" y="2544480"/>
              <a:ext cx="2438280" cy="198360"/>
            </a:xfrm>
            <a:prstGeom prst="rect">
              <a:avLst/>
            </a:prstGeom>
            <a:noFill/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e rules in tab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FD48-27E2-4B2D-86C3-A43C41184C9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4" name="Group 1"/>
          <p:cNvGrpSpPr/>
          <p:nvPr/>
        </p:nvGrpSpPr>
        <p:grpSpPr>
          <a:xfrm>
            <a:off x="1574640" y="1814400"/>
            <a:ext cx="5996160" cy="1538280"/>
            <a:chOff x="1574640" y="1814400"/>
            <a:chExt cx="5996160" cy="1538280"/>
          </a:xfrm>
        </p:grpSpPr>
        <p:pic>
          <p:nvPicPr>
            <p:cNvPr id="365" name="Picture 3" descr=""/>
            <p:cNvPicPr/>
            <p:nvPr/>
          </p:nvPicPr>
          <p:blipFill>
            <a:blip r:embed="rId1"/>
            <a:stretch/>
          </p:blipFill>
          <p:spPr>
            <a:xfrm>
              <a:off x="1574640" y="1814400"/>
              <a:ext cx="5996160" cy="1538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66" name="Rectangle 6"/>
            <p:cNvSpPr/>
            <p:nvPr/>
          </p:nvSpPr>
          <p:spPr>
            <a:xfrm>
              <a:off x="1599840" y="2743200"/>
              <a:ext cx="2057400" cy="3808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Rectangle 7"/>
            <p:cNvSpPr/>
            <p:nvPr/>
          </p:nvSpPr>
          <p:spPr>
            <a:xfrm>
              <a:off x="3695400" y="2752560"/>
              <a:ext cx="1333440" cy="371520"/>
            </a:xfrm>
            <a:prstGeom prst="rect">
              <a:avLst/>
            </a:prstGeom>
            <a:noFill/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Rectangle 8"/>
            <p:cNvSpPr/>
            <p:nvPr/>
          </p:nvSpPr>
          <p:spPr>
            <a:xfrm>
              <a:off x="5029200" y="2752560"/>
              <a:ext cx="2438280" cy="371520"/>
            </a:xfrm>
            <a:prstGeom prst="rect">
              <a:avLst/>
            </a:prstGeom>
            <a:noFill/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TextBox 9"/>
          <p:cNvSpPr/>
          <p:nvPr/>
        </p:nvSpPr>
        <p:spPr>
          <a:xfrm>
            <a:off x="1600200" y="3581280"/>
            <a:ext cx="6858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R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F (club’s country in Europe) THEN recommend (players who have ages &gt;= 23 and have club country in Asia)  to the clu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Calibri"/>
              </a:rPr>
              <a:t>IF (club’s country is Asia) THEN recommend (players who have ages &gt;= 23 and have club country in Europe)  to the clu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4/6: Mapping rules with ont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art Rule Management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Firefox or Chrome http://localhost:8080/rul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2A12-C78D-4357-94EE-C7D401E82A3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629320" cy="325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6" name="Oval 1"/>
          <p:cNvSpPr/>
          <p:nvPr/>
        </p:nvSpPr>
        <p:spPr>
          <a:xfrm>
            <a:off x="2438280" y="2286000"/>
            <a:ext cx="198144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-ste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load rules in Excel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pping rule criteria with ont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34C2-471D-4613-BBB0-09576C8BB97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407880" y="1295280"/>
            <a:ext cx="4849920" cy="280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1" name="Picture 11" descr=""/>
          <p:cNvPicPr/>
          <p:nvPr/>
        </p:nvPicPr>
        <p:blipFill>
          <a:blip r:embed="rId2"/>
          <a:stretch/>
        </p:blipFill>
        <p:spPr>
          <a:xfrm>
            <a:off x="4572000" y="3598920"/>
            <a:ext cx="3962520" cy="28018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load rules in Excel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EBFB-7E36-463A-BEEE-1EFB331B66A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4" name="Straight Arrow Connector 5"/>
          <p:cNvCxnSpPr/>
          <p:nvPr/>
        </p:nvCxnSpPr>
        <p:spPr>
          <a:xfrm>
            <a:off x="3733920" y="2819160"/>
            <a:ext cx="2210400" cy="61020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85" name="Oval 7"/>
          <p:cNvSpPr/>
          <p:nvPr/>
        </p:nvSpPr>
        <p:spPr>
          <a:xfrm>
            <a:off x="2971800" y="2514600"/>
            <a:ext cx="11430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Oval 10"/>
          <p:cNvSpPr/>
          <p:nvPr/>
        </p:nvSpPr>
        <p:spPr>
          <a:xfrm>
            <a:off x="7284960" y="6141960"/>
            <a:ext cx="60984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Oval 11"/>
          <p:cNvSpPr/>
          <p:nvPr/>
        </p:nvSpPr>
        <p:spPr>
          <a:xfrm>
            <a:off x="3003480" y="3048120"/>
            <a:ext cx="183528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Oval 9"/>
          <p:cNvSpPr/>
          <p:nvPr/>
        </p:nvSpPr>
        <p:spPr>
          <a:xfrm>
            <a:off x="533520" y="3657600"/>
            <a:ext cx="60948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1/5: Preparing</a:t>
            </a:r>
            <a:r>
              <a:rPr b="0" lang="th-TH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OWL Ontology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763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rule criteria with ontolog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904F-1DE5-4D4F-A2D9-F0134593761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657600" cy="239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2" name="Picture 3" descr=""/>
          <p:cNvPicPr/>
          <p:nvPr/>
        </p:nvPicPr>
        <p:blipFill>
          <a:blip r:embed="rId2"/>
          <a:stretch/>
        </p:blipFill>
        <p:spPr>
          <a:xfrm>
            <a:off x="2362320" y="2057400"/>
            <a:ext cx="5276880" cy="442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3" name="Oval 4"/>
          <p:cNvSpPr/>
          <p:nvPr/>
        </p:nvSpPr>
        <p:spPr>
          <a:xfrm>
            <a:off x="380880" y="2209680"/>
            <a:ext cx="144792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94" name="Straight Arrow Connector 6"/>
          <p:cNvCxnSpPr>
            <a:stCxn id="393" idx="5"/>
          </p:cNvCxnSpPr>
          <p:nvPr/>
        </p:nvCxnSpPr>
        <p:spPr>
          <a:xfrm>
            <a:off x="1616040" y="2405160"/>
            <a:ext cx="822960" cy="643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95" name="Oval 10"/>
          <p:cNvSpPr/>
          <p:nvPr/>
        </p:nvSpPr>
        <p:spPr>
          <a:xfrm>
            <a:off x="3429000" y="2590920"/>
            <a:ext cx="327672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7"/>
          <p:cNvSpPr/>
          <p:nvPr/>
        </p:nvSpPr>
        <p:spPr>
          <a:xfrm>
            <a:off x="5524560" y="2725560"/>
            <a:ext cx="2400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pping criteria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Oval 12"/>
          <p:cNvSpPr/>
          <p:nvPr/>
        </p:nvSpPr>
        <p:spPr>
          <a:xfrm>
            <a:off x="2514600" y="3657600"/>
            <a:ext cx="5124600" cy="1447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13"/>
          <p:cNvSpPr/>
          <p:nvPr/>
        </p:nvSpPr>
        <p:spPr>
          <a:xfrm>
            <a:off x="1257480" y="4197240"/>
            <a:ext cx="2361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pping criteria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99" name="Straight Arrow Connector 14"/>
          <p:cNvCxnSpPr/>
          <p:nvPr/>
        </p:nvCxnSpPr>
        <p:spPr>
          <a:xfrm>
            <a:off x="6095520" y="3428640"/>
            <a:ext cx="1280520" cy="153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0" name="Rectangle 15"/>
          <p:cNvSpPr/>
          <p:nvPr/>
        </p:nvSpPr>
        <p:spPr>
          <a:xfrm>
            <a:off x="6880320" y="350532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Object proper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20"/>
          <p:cNvSpPr/>
          <p:nvPr/>
        </p:nvSpPr>
        <p:spPr>
          <a:xfrm>
            <a:off x="5873040" y="415116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Class nam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ight Brace 16"/>
          <p:cNvSpPr/>
          <p:nvPr/>
        </p:nvSpPr>
        <p:spPr>
          <a:xfrm>
            <a:off x="5524560" y="3765600"/>
            <a:ext cx="342720" cy="1111320"/>
          </a:xfrm>
          <a:custGeom>
            <a:avLst/>
            <a:gdLst>
              <a:gd name="textAreaLeft" fmla="*/ 0 w 342720"/>
              <a:gd name="textAreaRight" fmla="*/ 123840 w 342720"/>
              <a:gd name="textAreaTop" fmla="*/ 8640 h 1111320"/>
              <a:gd name="textAreaBottom" fmla="*/ 110268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8"/>
                  <a:pt x="10800" y="555"/>
                </a:cubicBezTo>
                <a:lnTo>
                  <a:pt x="10800" y="10245"/>
                </a:lnTo>
                <a:cubicBezTo>
                  <a:pt x="10800" y="10523"/>
                  <a:pt x="16200" y="10800"/>
                  <a:pt x="21600" y="10800"/>
                </a:cubicBezTo>
                <a:cubicBezTo>
                  <a:pt x="16200" y="10800"/>
                  <a:pt x="10800" y="11078"/>
                  <a:pt x="10800" y="11355"/>
                </a:cubicBezTo>
                <a:lnTo>
                  <a:pt x="10800" y="21045"/>
                </a:lnTo>
                <a:cubicBezTo>
                  <a:pt x="10800" y="21323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rule criteria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8605-8AEB-45AA-A411-37659AB825B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1969920" y="1295280"/>
            <a:ext cx="510552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6" name="Right Brace 4"/>
          <p:cNvSpPr/>
          <p:nvPr/>
        </p:nvSpPr>
        <p:spPr>
          <a:xfrm>
            <a:off x="4865760" y="3200400"/>
            <a:ext cx="304560" cy="76212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762120"/>
              <a:gd name="textAreaBottom" fmla="*/ 7542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16200" y="10800"/>
                  <a:pt x="21600" y="10800"/>
                </a:cubicBezTo>
                <a:cubicBezTo>
                  <a:pt x="162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6"/>
          <p:cNvSpPr/>
          <p:nvPr/>
        </p:nvSpPr>
        <p:spPr>
          <a:xfrm>
            <a:off x="5322960" y="3429000"/>
            <a:ext cx="14475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Operator +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8" name="Straight Arrow Connector 8"/>
          <p:cNvCxnSpPr/>
          <p:nvPr/>
        </p:nvCxnSpPr>
        <p:spPr>
          <a:xfrm>
            <a:off x="4637160" y="2971440"/>
            <a:ext cx="457920" cy="10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9" name="TextBox 10"/>
          <p:cNvSpPr/>
          <p:nvPr/>
        </p:nvSpPr>
        <p:spPr>
          <a:xfrm>
            <a:off x="5170320" y="2817720"/>
            <a:ext cx="1828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atatype proper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ight Brace 11"/>
          <p:cNvSpPr/>
          <p:nvPr/>
        </p:nvSpPr>
        <p:spPr>
          <a:xfrm>
            <a:off x="5257800" y="5076720"/>
            <a:ext cx="304920" cy="76212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762120"/>
              <a:gd name="textAreaBottom" fmla="*/ 7542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16200" y="10800"/>
                  <a:pt x="21600" y="10800"/>
                </a:cubicBezTo>
                <a:cubicBezTo>
                  <a:pt x="162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12"/>
          <p:cNvSpPr/>
          <p:nvPr/>
        </p:nvSpPr>
        <p:spPr>
          <a:xfrm>
            <a:off x="5715000" y="5305320"/>
            <a:ext cx="1447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ass na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2" name="Straight Arrow Connector 13"/>
          <p:cNvCxnSpPr/>
          <p:nvPr/>
        </p:nvCxnSpPr>
        <p:spPr>
          <a:xfrm>
            <a:off x="5029200" y="4847760"/>
            <a:ext cx="457920" cy="10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13" name="TextBox 14"/>
          <p:cNvSpPr/>
          <p:nvPr/>
        </p:nvSpPr>
        <p:spPr>
          <a:xfrm>
            <a:off x="5562720" y="4695840"/>
            <a:ext cx="1828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Object proper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Oval 15"/>
          <p:cNvSpPr/>
          <p:nvPr/>
        </p:nvSpPr>
        <p:spPr>
          <a:xfrm>
            <a:off x="1873080" y="6181560"/>
            <a:ext cx="793800" cy="295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ish Creating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0478-40BA-4401-869B-0D25EF48C7C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rcRect l="0" t="7655" r="3169" b="13623"/>
          <a:stretch/>
        </p:blipFill>
        <p:spPr>
          <a:xfrm>
            <a:off x="380880" y="1371600"/>
            <a:ext cx="5423040" cy="208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8" name="Oval 6"/>
          <p:cNvSpPr/>
          <p:nvPr/>
        </p:nvSpPr>
        <p:spPr>
          <a:xfrm>
            <a:off x="457200" y="2944800"/>
            <a:ext cx="281952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Oval 10"/>
          <p:cNvSpPr/>
          <p:nvPr/>
        </p:nvSpPr>
        <p:spPr>
          <a:xfrm>
            <a:off x="3259080" y="2895480"/>
            <a:ext cx="174636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2"/>
          <a:srcRect l="0" t="12703" r="0" b="0"/>
          <a:stretch/>
        </p:blipFill>
        <p:spPr>
          <a:xfrm>
            <a:off x="152280" y="4343400"/>
            <a:ext cx="3810240" cy="12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421" name="Straight Arrow Connector 11"/>
          <p:cNvCxnSpPr/>
          <p:nvPr/>
        </p:nvCxnSpPr>
        <p:spPr>
          <a:xfrm>
            <a:off x="1866600" y="3455640"/>
            <a:ext cx="1080" cy="888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22" name="Straight Arrow Connector 15"/>
          <p:cNvCxnSpPr/>
          <p:nvPr/>
        </p:nvCxnSpPr>
        <p:spPr>
          <a:xfrm>
            <a:off x="5005440" y="3173400"/>
            <a:ext cx="799200" cy="7275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423" name="Picture 4" descr=""/>
          <p:cNvPicPr/>
          <p:nvPr/>
        </p:nvPicPr>
        <p:blipFill>
          <a:blip r:embed="rId3"/>
          <a:srcRect l="3569" t="0" r="0" b="0"/>
          <a:stretch/>
        </p:blipFill>
        <p:spPr>
          <a:xfrm>
            <a:off x="4125960" y="3919680"/>
            <a:ext cx="4924440" cy="144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5/6: Apply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Apply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1209600" y="1928880"/>
            <a:ext cx="6724800" cy="3000240"/>
          </a:xfrm>
          <a:prstGeom prst="rect">
            <a:avLst/>
          </a:prstGeom>
          <a:ln w="0">
            <a:noFill/>
          </a:ln>
        </p:spPr>
      </p:pic>
      <p:sp>
        <p:nvSpPr>
          <p:cNvPr id="428" name="Oval 4"/>
          <p:cNvSpPr/>
          <p:nvPr/>
        </p:nvSpPr>
        <p:spPr>
          <a:xfrm>
            <a:off x="3781440" y="3962520"/>
            <a:ext cx="3381480" cy="814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E69C-1EEA-4DB2-AC61-01FE661DF24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1"/>
          <p:cNvSpPr/>
          <p:nvPr/>
        </p:nvSpPr>
        <p:spPr>
          <a:xfrm>
            <a:off x="1835280" y="5661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** Please restart Tomcat after this step.*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6"/>
          <p:cNvSpPr/>
          <p:nvPr/>
        </p:nvSpPr>
        <p:spPr>
          <a:xfrm>
            <a:off x="1246320" y="3048120"/>
            <a:ext cx="963360" cy="295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1"/>
          <p:cNvSpPr/>
          <p:nvPr/>
        </p:nvSpPr>
        <p:spPr>
          <a:xfrm>
            <a:off x="2908080" y="1379520"/>
            <a:ext cx="32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http://localhost:8080/config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6/6: Start search application to view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934920" y="1360440"/>
            <a:ext cx="6748560" cy="488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Update Application Conf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Oval 6"/>
          <p:cNvSpPr/>
          <p:nvPr/>
        </p:nvSpPr>
        <p:spPr>
          <a:xfrm>
            <a:off x="6248520" y="3124080"/>
            <a:ext cx="45720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8908-9B52-426D-A9A0-81934F67AA4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Oval 5"/>
          <p:cNvSpPr/>
          <p:nvPr/>
        </p:nvSpPr>
        <p:spPr>
          <a:xfrm>
            <a:off x="1143000" y="4191120"/>
            <a:ext cx="533520" cy="244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1638360" y="1778040"/>
            <a:ext cx="5867280" cy="33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Add Display Prope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6019920" y="4565520"/>
            <a:ext cx="1295280" cy="387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3098-AB90-4822-82AB-786E9D2286B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nge Search/Display Proper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EF23-7942-4BAD-B133-F350975F72D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4578480" y="3672000"/>
            <a:ext cx="3887640" cy="17809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457200" y="1514520"/>
            <a:ext cx="4114800" cy="17208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"/>
          <p:cNvPicPr/>
          <p:nvPr/>
        </p:nvPicPr>
        <p:blipFill>
          <a:blip r:embed="rId3"/>
          <a:stretch/>
        </p:blipFill>
        <p:spPr>
          <a:xfrm>
            <a:off x="4648320" y="1514520"/>
            <a:ext cx="3948120" cy="17622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"/>
          <p:cNvPicPr/>
          <p:nvPr/>
        </p:nvPicPr>
        <p:blipFill>
          <a:blip r:embed="rId4"/>
          <a:stretch/>
        </p:blipFill>
        <p:spPr>
          <a:xfrm>
            <a:off x="457200" y="3657600"/>
            <a:ext cx="3998880" cy="1828800"/>
          </a:xfrm>
          <a:prstGeom prst="rect">
            <a:avLst/>
          </a:prstGeom>
          <a:ln w="0">
            <a:noFill/>
          </a:ln>
        </p:spPr>
      </p:pic>
      <p:sp>
        <p:nvSpPr>
          <p:cNvPr id="450" name="Oval 7"/>
          <p:cNvSpPr/>
          <p:nvPr/>
        </p:nvSpPr>
        <p:spPr>
          <a:xfrm>
            <a:off x="4952880" y="5105520"/>
            <a:ext cx="762120" cy="311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ave Configu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10280" cy="4981680"/>
          </a:xfrm>
          <a:prstGeom prst="rect">
            <a:avLst/>
          </a:prstGeom>
          <a:ln w="0">
            <a:noFill/>
          </a:ln>
        </p:spPr>
      </p:pic>
      <p:sp>
        <p:nvSpPr>
          <p:cNvPr id="453" name="Oval 4"/>
          <p:cNvSpPr/>
          <p:nvPr/>
        </p:nvSpPr>
        <p:spPr>
          <a:xfrm flipV="1">
            <a:off x="3429000" y="2361960"/>
            <a:ext cx="3657600" cy="838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Oval 7"/>
          <p:cNvSpPr/>
          <p:nvPr/>
        </p:nvSpPr>
        <p:spPr>
          <a:xfrm flipV="1">
            <a:off x="873000" y="3885480"/>
            <a:ext cx="156528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EACF-354D-4121-BDD1-BF556D6485F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ngsana New"/>
              </a:rPr>
              <a:t>Export OWL Ontology from</a:t>
            </a:r>
            <a:r>
              <a:rPr b="0" lang="th-TH" sz="4000" spc="-1" strike="noStrike">
                <a:solidFill>
                  <a:srgbClr val="000000"/>
                </a:solidFill>
                <a:latin typeface="Calibri"/>
                <a:ea typeface="Angsana New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ngsana New"/>
              </a:rPr>
              <a:t>Hozo Ontology Edi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34356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Oval 3"/>
          <p:cNvSpPr/>
          <p:nvPr/>
        </p:nvSpPr>
        <p:spPr>
          <a:xfrm>
            <a:off x="1219320" y="3809880"/>
            <a:ext cx="9903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6"/>
          <p:cNvSpPr/>
          <p:nvPr/>
        </p:nvSpPr>
        <p:spPr>
          <a:xfrm>
            <a:off x="3809880" y="5029200"/>
            <a:ext cx="9907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7"/>
          <p:cNvSpPr/>
          <p:nvPr/>
        </p:nvSpPr>
        <p:spPr>
          <a:xfrm>
            <a:off x="738360" y="1600200"/>
            <a:ext cx="9903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21FC-65FC-489F-B6A7-93B74591D2D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arch to view recommendation 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localhost:8080/search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1538-9BFF-4D07-8F4D-3FA0E5B3D5C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rcRect l="0" t="0" r="2407" b="0"/>
          <a:stretch/>
        </p:blipFill>
        <p:spPr>
          <a:xfrm>
            <a:off x="189000" y="2057400"/>
            <a:ext cx="8802720" cy="316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0" name="Oval 6"/>
          <p:cNvSpPr/>
          <p:nvPr/>
        </p:nvSpPr>
        <p:spPr>
          <a:xfrm flipV="1">
            <a:off x="152280" y="2068920"/>
            <a:ext cx="6782040" cy="1282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Oval 7"/>
          <p:cNvSpPr/>
          <p:nvPr/>
        </p:nvSpPr>
        <p:spPr>
          <a:xfrm flipV="1">
            <a:off x="6553080" y="3504600"/>
            <a:ext cx="2514600" cy="1904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4"/>
          <p:cNvSpPr/>
          <p:nvPr/>
        </p:nvSpPr>
        <p:spPr>
          <a:xfrm>
            <a:off x="2743200" y="2362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Search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9"/>
          <p:cNvSpPr/>
          <p:nvPr/>
        </p:nvSpPr>
        <p:spPr>
          <a:xfrm>
            <a:off x="6095880" y="5545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Recommendation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AM Tutorial: Part 3 -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ngsana New"/>
              </a:rPr>
              <a:t>Recommender Web API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476360" y="4508280"/>
            <a:ext cx="640080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mantic KM Tools Work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rdia New"/>
                <a:ea typeface="Cordia New"/>
              </a:rPr>
              <a:t>LST Lab, NECT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ed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mmender Web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mmender Web Service Configuration T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D01C-79BD-4355-9EE4-24164313B06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ommender Web Service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C214-7521-4465-9F9D-1075D233770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16760" cy="42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72" name="Group 9"/>
          <p:cNvGrpSpPr/>
          <p:nvPr/>
        </p:nvGrpSpPr>
        <p:grpSpPr>
          <a:xfrm>
            <a:off x="304920" y="1143000"/>
            <a:ext cx="8458200" cy="990720"/>
            <a:chOff x="304920" y="1143000"/>
            <a:chExt cx="8458200" cy="990720"/>
          </a:xfrm>
        </p:grpSpPr>
        <p:sp>
          <p:nvSpPr>
            <p:cNvPr id="473" name="Rectangle 5"/>
            <p:cNvSpPr/>
            <p:nvPr/>
          </p:nvSpPr>
          <p:spPr>
            <a:xfrm>
              <a:off x="304920" y="1512720"/>
              <a:ext cx="8458200" cy="621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TextBox 7"/>
            <p:cNvSpPr/>
            <p:nvPr/>
          </p:nvSpPr>
          <p:spPr>
            <a:xfrm>
              <a:off x="6248520" y="114300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5" name="Group 10"/>
          <p:cNvGrpSpPr/>
          <p:nvPr/>
        </p:nvGrpSpPr>
        <p:grpSpPr>
          <a:xfrm>
            <a:off x="322200" y="2717640"/>
            <a:ext cx="8458200" cy="3378240"/>
            <a:chOff x="322200" y="2717640"/>
            <a:chExt cx="8458200" cy="3378240"/>
          </a:xfrm>
        </p:grpSpPr>
        <p:sp>
          <p:nvSpPr>
            <p:cNvPr id="476" name="Rectangle 6"/>
            <p:cNvSpPr/>
            <p:nvPr/>
          </p:nvSpPr>
          <p:spPr>
            <a:xfrm>
              <a:off x="322200" y="2717640"/>
              <a:ext cx="8458200" cy="3378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TextBox 8"/>
            <p:cNvSpPr/>
            <p:nvPr/>
          </p:nvSpPr>
          <p:spPr>
            <a:xfrm>
              <a:off x="7239240" y="28958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5-Step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Connect to Web API config data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Create config pro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Web API input parameter conf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Web API Output confi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rdia New"/>
              </a:rPr>
              <a:t>Test Web API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1/5: Connect to Web API config data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82" name="TextBox 1"/>
          <p:cNvSpPr/>
          <p:nvPr/>
        </p:nvSpPr>
        <p:spPr>
          <a:xfrm>
            <a:off x="1438200" y="6205680"/>
            <a:ext cx="678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* copy “ws_adm” from “OAM_Tools\software\add-on”</a:t>
            </a:r>
            <a:r>
              <a:rPr b="0" lang="th-TH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o “C:\AppServ\www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ize configuration data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Web Browser at URL: http://localhost/ws_ad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2309-EE0F-4F8B-9E60-F5085813E94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724280" cy="446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7" name="Oval 4"/>
          <p:cNvSpPr/>
          <p:nvPr/>
        </p:nvSpPr>
        <p:spPr>
          <a:xfrm>
            <a:off x="2666880" y="2362320"/>
            <a:ext cx="4572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ize configuration data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0DE0-0A25-45AD-AD27-D06485634ED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019160" y="1790640"/>
            <a:ext cx="710568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2/5: Create config pro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e new config pro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708E-BF26-4757-94F0-E933A11750D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5" name="Group 1"/>
          <p:cNvGrpSpPr/>
          <p:nvPr/>
        </p:nvGrpSpPr>
        <p:grpSpPr>
          <a:xfrm>
            <a:off x="1600200" y="1523880"/>
            <a:ext cx="5987880" cy="4038840"/>
            <a:chOff x="1600200" y="1523880"/>
            <a:chExt cx="5987880" cy="4038840"/>
          </a:xfrm>
        </p:grpSpPr>
        <p:pic>
          <p:nvPicPr>
            <p:cNvPr id="496" name="Picture 2" descr=""/>
            <p:cNvPicPr/>
            <p:nvPr/>
          </p:nvPicPr>
          <p:blipFill>
            <a:blip r:embed="rId1"/>
            <a:stretch/>
          </p:blipFill>
          <p:spPr>
            <a:xfrm>
              <a:off x="1600200" y="1523880"/>
              <a:ext cx="5987880" cy="1722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97" name="Picture 3" descr=""/>
            <p:cNvPicPr/>
            <p:nvPr/>
          </p:nvPicPr>
          <p:blipFill>
            <a:blip r:embed="rId2"/>
            <a:stretch/>
          </p:blipFill>
          <p:spPr>
            <a:xfrm>
              <a:off x="1600200" y="3890880"/>
              <a:ext cx="5987880" cy="1671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98" name="Down Arrow 4"/>
            <p:cNvSpPr/>
            <p:nvPr/>
          </p:nvSpPr>
          <p:spPr>
            <a:xfrm>
              <a:off x="4267080" y="3352680"/>
              <a:ext cx="838080" cy="304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Oval 7"/>
            <p:cNvSpPr/>
            <p:nvPr/>
          </p:nvSpPr>
          <p:spPr>
            <a:xfrm>
              <a:off x="3627360" y="1820520"/>
              <a:ext cx="6858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Oval 8"/>
            <p:cNvSpPr/>
            <p:nvPr/>
          </p:nvSpPr>
          <p:spPr>
            <a:xfrm>
              <a:off x="3627360" y="4573800"/>
              <a:ext cx="6858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Oval 11"/>
            <p:cNvSpPr/>
            <p:nvPr/>
          </p:nvSpPr>
          <p:spPr>
            <a:xfrm>
              <a:off x="5257800" y="5105520"/>
              <a:ext cx="6858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Oval 10"/>
            <p:cNvSpPr/>
            <p:nvPr/>
          </p:nvSpPr>
          <p:spPr>
            <a:xfrm>
              <a:off x="5257800" y="2906640"/>
              <a:ext cx="6858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000000"/>
              </a:solidFill>
              <a:latin typeface="Calibri"/>
              <a:ea typeface="Angsana New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7086600" cy="5719680"/>
          </a:xfrm>
          <a:prstGeom prst="rect">
            <a:avLst/>
          </a:prstGeom>
          <a:ln w="0">
            <a:noFill/>
          </a:ln>
        </p:spPr>
      </p:pic>
      <p:sp>
        <p:nvSpPr>
          <p:cNvPr id="72" name="Oval 3"/>
          <p:cNvSpPr/>
          <p:nvPr/>
        </p:nvSpPr>
        <p:spPr>
          <a:xfrm>
            <a:off x="4782960" y="5410080"/>
            <a:ext cx="1600200" cy="766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B15E-E258-452F-A3B2-AC3B4862B40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ize config pro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2856-92DD-4BA8-9F68-416E9362D2C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5410440" cy="521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6" name="Oval 5"/>
          <p:cNvSpPr/>
          <p:nvPr/>
        </p:nvSpPr>
        <p:spPr>
          <a:xfrm>
            <a:off x="1600200" y="3048120"/>
            <a:ext cx="3048120" cy="1218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Oval 10"/>
          <p:cNvSpPr/>
          <p:nvPr/>
        </p:nvSpPr>
        <p:spPr>
          <a:xfrm>
            <a:off x="1143000" y="4343400"/>
            <a:ext cx="4876920" cy="1600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4"/>
          <p:cNvSpPr/>
          <p:nvPr/>
        </p:nvSpPr>
        <p:spPr>
          <a:xfrm>
            <a:off x="4800600" y="2814480"/>
            <a:ext cx="24382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Database setting (the same database used in DB-ontology mapp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12"/>
          <p:cNvSpPr/>
          <p:nvPr/>
        </p:nvSpPr>
        <p:spPr>
          <a:xfrm>
            <a:off x="6095880" y="4495680"/>
            <a:ext cx="2286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SKAF_HOME set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Oval 14"/>
          <p:cNvSpPr/>
          <p:nvPr/>
        </p:nvSpPr>
        <p:spPr>
          <a:xfrm>
            <a:off x="1828800" y="1692360"/>
            <a:ext cx="914400" cy="517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3/5: Web API input parameter conf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b API Input Parameter Conf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42C6-F144-4CBE-AF95-29EE2E2980D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Group 1"/>
          <p:cNvGrpSpPr/>
          <p:nvPr/>
        </p:nvGrpSpPr>
        <p:grpSpPr>
          <a:xfrm>
            <a:off x="700200" y="1600200"/>
            <a:ext cx="7072200" cy="3886200"/>
            <a:chOff x="700200" y="1600200"/>
            <a:chExt cx="7072200" cy="3886200"/>
          </a:xfrm>
        </p:grpSpPr>
        <p:pic>
          <p:nvPicPr>
            <p:cNvPr id="517" name="Picture 2" descr=""/>
            <p:cNvPicPr/>
            <p:nvPr/>
          </p:nvPicPr>
          <p:blipFill>
            <a:blip r:embed="rId2"/>
            <a:srcRect l="0" t="11491" r="0" b="0"/>
            <a:stretch/>
          </p:blipFill>
          <p:spPr>
            <a:xfrm>
              <a:off x="700200" y="1600200"/>
              <a:ext cx="7072200" cy="3063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18" name="Oval 5"/>
            <p:cNvSpPr/>
            <p:nvPr/>
          </p:nvSpPr>
          <p:spPr>
            <a:xfrm>
              <a:off x="2895480" y="1752480"/>
              <a:ext cx="1066680" cy="517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Oval 6"/>
            <p:cNvSpPr/>
            <p:nvPr/>
          </p:nvSpPr>
          <p:spPr>
            <a:xfrm>
              <a:off x="2819520" y="3543120"/>
              <a:ext cx="141588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Oval 7"/>
            <p:cNvSpPr/>
            <p:nvPr/>
          </p:nvSpPr>
          <p:spPr>
            <a:xfrm>
              <a:off x="2971800" y="4114800"/>
              <a:ext cx="141588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TextBox 8"/>
            <p:cNvSpPr/>
            <p:nvPr/>
          </p:nvSpPr>
          <p:spPr>
            <a:xfrm>
              <a:off x="4264200" y="3276720"/>
              <a:ext cx="1298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Class nam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TextBox 9"/>
            <p:cNvSpPr/>
            <p:nvPr/>
          </p:nvSpPr>
          <p:spPr>
            <a:xfrm>
              <a:off x="4496040" y="4097520"/>
              <a:ext cx="1298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Table nam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3" name="Picture 3" descr=""/>
            <p:cNvPicPr/>
            <p:nvPr/>
          </p:nvPicPr>
          <p:blipFill>
            <a:blip r:embed="rId3"/>
            <a:srcRect l="44623" t="0" r="14314" b="85523"/>
            <a:stretch/>
          </p:blipFill>
          <p:spPr>
            <a:xfrm>
              <a:off x="3075120" y="5029200"/>
              <a:ext cx="23223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Oval 13"/>
            <p:cNvSpPr/>
            <p:nvPr/>
          </p:nvSpPr>
          <p:spPr>
            <a:xfrm>
              <a:off x="3613320" y="5029200"/>
              <a:ext cx="141588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b API Input Parameter Config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0EF8-5AF2-4587-B391-B49535D210B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Group 1"/>
          <p:cNvGrpSpPr/>
          <p:nvPr/>
        </p:nvGrpSpPr>
        <p:grpSpPr>
          <a:xfrm>
            <a:off x="533520" y="1751040"/>
            <a:ext cx="7962840" cy="3583080"/>
            <a:chOff x="533520" y="1751040"/>
            <a:chExt cx="7962840" cy="3583080"/>
          </a:xfrm>
        </p:grpSpPr>
        <p:pic>
          <p:nvPicPr>
            <p:cNvPr id="528" name="Picture 2" descr=""/>
            <p:cNvPicPr/>
            <p:nvPr/>
          </p:nvPicPr>
          <p:blipFill>
            <a:blip r:embed="rId1"/>
            <a:stretch/>
          </p:blipFill>
          <p:spPr>
            <a:xfrm>
              <a:off x="533520" y="1751040"/>
              <a:ext cx="7962840" cy="3583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29" name="Oval 5"/>
            <p:cNvSpPr/>
            <p:nvPr/>
          </p:nvSpPr>
          <p:spPr>
            <a:xfrm>
              <a:off x="2743200" y="2055600"/>
              <a:ext cx="1828800" cy="2667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Oval 7"/>
            <p:cNvSpPr/>
            <p:nvPr/>
          </p:nvSpPr>
          <p:spPr>
            <a:xfrm>
              <a:off x="5639040" y="2039760"/>
              <a:ext cx="1828800" cy="2667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Oval 8"/>
            <p:cNvSpPr/>
            <p:nvPr/>
          </p:nvSpPr>
          <p:spPr>
            <a:xfrm>
              <a:off x="5105520" y="4799160"/>
              <a:ext cx="152388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4/5: Web API Output conf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b API Output Conf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04C3-4CB8-47E7-BEB3-CD2F3E2EEB4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6" name="Group 1"/>
          <p:cNvGrpSpPr/>
          <p:nvPr/>
        </p:nvGrpSpPr>
        <p:grpSpPr>
          <a:xfrm>
            <a:off x="1447920" y="1332000"/>
            <a:ext cx="7086600" cy="5145120"/>
            <a:chOff x="1447920" y="1332000"/>
            <a:chExt cx="7086600" cy="5145120"/>
          </a:xfrm>
        </p:grpSpPr>
        <p:pic>
          <p:nvPicPr>
            <p:cNvPr id="537" name="Picture 2" descr=""/>
            <p:cNvPicPr/>
            <p:nvPr/>
          </p:nvPicPr>
          <p:blipFill>
            <a:blip r:embed="rId1"/>
            <a:stretch/>
          </p:blipFill>
          <p:spPr>
            <a:xfrm>
              <a:off x="1447920" y="1332000"/>
              <a:ext cx="6210360" cy="514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38" name="Oval 5"/>
            <p:cNvSpPr/>
            <p:nvPr/>
          </p:nvSpPr>
          <p:spPr>
            <a:xfrm>
              <a:off x="4343400" y="1500120"/>
              <a:ext cx="914400" cy="517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Oval 6"/>
            <p:cNvSpPr/>
            <p:nvPr/>
          </p:nvSpPr>
          <p:spPr>
            <a:xfrm>
              <a:off x="3429000" y="2932200"/>
              <a:ext cx="914400" cy="517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Oval 7"/>
            <p:cNvSpPr/>
            <p:nvPr/>
          </p:nvSpPr>
          <p:spPr>
            <a:xfrm>
              <a:off x="3429000" y="5065920"/>
              <a:ext cx="914400" cy="517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Oval 8"/>
            <p:cNvSpPr/>
            <p:nvPr/>
          </p:nvSpPr>
          <p:spPr>
            <a:xfrm>
              <a:off x="3400560" y="4548240"/>
              <a:ext cx="914400" cy="517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TextBox 9"/>
            <p:cNvSpPr/>
            <p:nvPr/>
          </p:nvSpPr>
          <p:spPr>
            <a:xfrm>
              <a:off x="4419720" y="282096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XML tag nam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TextBox 10"/>
            <p:cNvSpPr/>
            <p:nvPr/>
          </p:nvSpPr>
          <p:spPr>
            <a:xfrm>
              <a:off x="4359240" y="4623120"/>
              <a:ext cx="32702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property linked to ‘Player’ clas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TextBox 11"/>
            <p:cNvSpPr/>
            <p:nvPr/>
          </p:nvSpPr>
          <p:spPr>
            <a:xfrm>
              <a:off x="4361040" y="5065920"/>
              <a:ext cx="4173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property of ‘Player’ class to show in result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Oval 12"/>
            <p:cNvSpPr/>
            <p:nvPr/>
          </p:nvSpPr>
          <p:spPr>
            <a:xfrm>
              <a:off x="4953240" y="5828040"/>
              <a:ext cx="914400" cy="517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Step 5/5: Test Web API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"/>
          <p:cNvPicPr/>
          <p:nvPr/>
        </p:nvPicPr>
        <p:blipFill>
          <a:blip r:embed="rId1"/>
          <a:stretch/>
        </p:blipFill>
        <p:spPr>
          <a:xfrm>
            <a:off x="762120" y="1558800"/>
            <a:ext cx="7476840" cy="286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e test 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E361-48BE-4CA4-8836-973B03AF7DE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4"/>
          <p:cNvSpPr/>
          <p:nvPr/>
        </p:nvSpPr>
        <p:spPr>
          <a:xfrm>
            <a:off x="6324480" y="3962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form_test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5" descr=""/>
          <p:cNvPicPr/>
          <p:nvPr/>
        </p:nvPicPr>
        <p:blipFill>
          <a:blip r:embed="rId2"/>
          <a:stretch/>
        </p:blipFill>
        <p:spPr>
          <a:xfrm>
            <a:off x="1676520" y="4857840"/>
            <a:ext cx="6067440" cy="16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3" name="Down Arrow 5"/>
          <p:cNvSpPr/>
          <p:nvPr/>
        </p:nvSpPr>
        <p:spPr>
          <a:xfrm>
            <a:off x="4343400" y="4495680"/>
            <a:ext cx="91440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4" name="Straight Arrow Connector 9"/>
          <p:cNvCxnSpPr>
            <a:stCxn id="555" idx="2"/>
          </p:cNvCxnSpPr>
          <p:nvPr/>
        </p:nvCxnSpPr>
        <p:spPr>
          <a:xfrm>
            <a:off x="4457880" y="1481040"/>
            <a:ext cx="815040" cy="88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55" name="Rectangle 1"/>
          <p:cNvSpPr/>
          <p:nvPr/>
        </p:nvSpPr>
        <p:spPr>
          <a:xfrm>
            <a:off x="762120" y="114300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://localhost:8080/rec_api/WS/state/reccommend/football/Football_clu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 Web API 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FE72-E3A5-48AB-9625-0CB5FB4970E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343400" cy="115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9" name="Picture 3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6485040" cy="349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0" name="Oval 6"/>
          <p:cNvSpPr/>
          <p:nvPr/>
        </p:nvSpPr>
        <p:spPr>
          <a:xfrm>
            <a:off x="304920" y="2209680"/>
            <a:ext cx="609480" cy="182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Oval 7"/>
          <p:cNvSpPr/>
          <p:nvPr/>
        </p:nvSpPr>
        <p:spPr>
          <a:xfrm>
            <a:off x="6172200" y="2666880"/>
            <a:ext cx="25146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Oval 8"/>
          <p:cNvSpPr/>
          <p:nvPr/>
        </p:nvSpPr>
        <p:spPr>
          <a:xfrm>
            <a:off x="990720" y="3657600"/>
            <a:ext cx="4876560" cy="258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9"/>
          <p:cNvSpPr/>
          <p:nvPr/>
        </p:nvSpPr>
        <p:spPr>
          <a:xfrm>
            <a:off x="6553080" y="1295280"/>
            <a:ext cx="190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Input Parame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10"/>
          <p:cNvSpPr/>
          <p:nvPr/>
        </p:nvSpPr>
        <p:spPr>
          <a:xfrm>
            <a:off x="5767560" y="4121280"/>
            <a:ext cx="1852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Web API Outp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Oval 12"/>
          <p:cNvSpPr/>
          <p:nvPr/>
        </p:nvSpPr>
        <p:spPr>
          <a:xfrm>
            <a:off x="4952880" y="2649600"/>
            <a:ext cx="457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Oval 13"/>
          <p:cNvSpPr/>
          <p:nvPr/>
        </p:nvSpPr>
        <p:spPr>
          <a:xfrm>
            <a:off x="5410080" y="2735280"/>
            <a:ext cx="76212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9"/>
          <p:cNvSpPr/>
          <p:nvPr/>
        </p:nvSpPr>
        <p:spPr>
          <a:xfrm>
            <a:off x="5867280" y="1752480"/>
            <a:ext cx="1295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Class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9"/>
          <p:cNvSpPr/>
          <p:nvPr/>
        </p:nvSpPr>
        <p:spPr>
          <a:xfrm>
            <a:off x="4800600" y="2144880"/>
            <a:ext cx="1447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Profil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9" name="Straight Arrow Connector 2"/>
          <p:cNvCxnSpPr>
            <a:stCxn id="568" idx="2"/>
            <a:endCxn id="565" idx="0"/>
          </p:cNvCxnSpPr>
          <p:nvPr/>
        </p:nvCxnSpPr>
        <p:spPr>
          <a:xfrm flipH="1">
            <a:off x="5180760" y="2514240"/>
            <a:ext cx="343800" cy="135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70" name="Straight Arrow Connector 18"/>
          <p:cNvCxnSpPr>
            <a:stCxn id="567" idx="2"/>
            <a:endCxn id="566" idx="7"/>
          </p:cNvCxnSpPr>
          <p:nvPr/>
        </p:nvCxnSpPr>
        <p:spPr>
          <a:xfrm flipH="1">
            <a:off x="6060600" y="2122560"/>
            <a:ext cx="455040" cy="68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71" name="Straight Arrow Connector 20"/>
          <p:cNvCxnSpPr>
            <a:stCxn id="563" idx="2"/>
            <a:endCxn id="561" idx="0"/>
          </p:cNvCxnSpPr>
          <p:nvPr/>
        </p:nvCxnSpPr>
        <p:spPr>
          <a:xfrm flipH="1">
            <a:off x="7428960" y="1665360"/>
            <a:ext cx="76680" cy="100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End of Tu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lst.nectec.or.th/oa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C0CF-329B-4F06-A3BC-D719648D3B6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2:33:02Z</dcterms:created>
  <dc:creator>Marut</dc:creator>
  <dc:description/>
  <dc:language>en-US</dc:language>
  <cp:lastModifiedBy>Marut Buranarach</cp:lastModifiedBy>
  <cp:lastPrinted>2016-02-07T11:54:06Z</cp:lastPrinted>
  <dcterms:modified xsi:type="dcterms:W3CDTF">2016-12-22T07:22:58Z</dcterms:modified>
  <cp:revision>111</cp:revision>
  <dc:subject/>
  <dc:title>PowerPoint Presentation</dc:title>
</cp:coreProperties>
</file>